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28B-1D56-4D58-BC67-1A3741AC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70A-2EE4-4535-B899-FCBC457C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014-A5E7-4508-B245-90BA2A42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BD8-D241-4943-928D-C467F817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912F-963C-4129-872A-7C01738E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A967-A776-4A47-AFDD-C45CCB3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60D-B84B-47D3-87C1-95E941D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1962-F3D6-4DF7-97D9-E3E488B0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F4C6-302B-4A69-B49E-BDCDC5D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B41-26DD-4C36-9385-8A9B043A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AC1-876B-4FB4-BF36-6B6AB5D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1FF-7C9C-4D59-86BC-466F0D4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7A01-F8A8-464E-B984-18B6D762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A01B-5985-4F0A-BC55-E4AD1B8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DBCF-95C4-4F07-8AC7-9021974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758E-5B1D-4582-A4F6-58DCD790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8DCF-AA7A-43A6-9032-62DC7F5F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3F9-C718-4797-91E3-E945F557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930-A1D0-47C4-BCC3-1DF3D159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B9B-90B1-4571-8E40-5655F22D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CC4-3842-4198-BEEE-B95E99AB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15C-B36C-4A15-AE5B-5137BB6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F66-9DBD-421E-8769-0FB1274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687-886F-41F4-AC44-D0809E1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27D0-7802-452D-B920-7EA5EDD242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542-2DD8-4833-9000-FCF49FFE72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lavery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sh Zimmerm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C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ffects of the American Revolution and the Constit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adual abolition of slavery in the northern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d of the Atlantic Slave Trade in 180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trenchment of slavery in the South with the invention of the cotton gin in 1793 by Eli Whitne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NW0075"/>
          <p:cNvPicPr/>
          <p:nvPr/>
        </p:nvPicPr>
        <p:blipFill>
          <a:blip r:embed="rId1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of a Sl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had Sundays off and they went to church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slaves could not read or write, and it was illegal for them to lear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Codes-They could not:  leave their home without a pass, carry a weapon, gather in groups,  own property, legally marry, defend themselves against a white person, or speak in cour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ight-Slaves would runawa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uancy-Flight for a short amount of time and then the slave came bac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usal to reproduce-Women refused to have childre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vert Action-Slaves would sometimes kill animals, destroy crops, start fires, steal stuff, break tools, poison f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NW0107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nish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often brutally punished for misbehav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nishments included:  whipping, branding, being sold, gagged (silence), and other torturous methods were us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6480" y="3916080"/>
            <a:ext cx="400032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HW0051"/>
          <p:cNvPicPr/>
          <p:nvPr/>
        </p:nvPicPr>
        <p:blipFill>
          <a:blip r:embed="rId1"/>
          <a:stretch/>
        </p:blipFill>
        <p:spPr>
          <a:xfrm>
            <a:off x="4572000" y="228600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NW0030"/>
          <p:cNvPicPr/>
          <p:nvPr/>
        </p:nvPicPr>
        <p:blipFill>
          <a:blip r:embed="rId2"/>
          <a:stretch/>
        </p:blipFill>
        <p:spPr>
          <a:xfrm>
            <a:off x="6477120" y="304920"/>
            <a:ext cx="14652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jor slave revolt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no Rebellion-failed revolt in South Carolina in 173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briel Prosser-led failed revolt in Virginia in 1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nmark Vessey-led failed revolt in South Carolina in 182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 Turner-killed 60 white people in Virginia in 183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lifornia comes in the Union (United States) as a fre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ah and New Mexico territories are created-no mention of slavery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utlaws slave trade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gitive Slave Act-requires northerners to return escaped slaves to mast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red Scott Dec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red Scott was a slave who was taken to a free territory by his owner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sued for his freedom because he lived in the free territo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case went all the way to the Supreme Court, where Scott loses because he was not considered a citizen, thus could not sue in federal court.  (He was “property” and could be taken anywhere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ion of 1860 and the Start of the Civil W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aham Lincoln was elected president in 1860 without any southern electoral vo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outhern states quickly seceded from the Union, South Carolina leading th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thern troops fired upon Fort Sumter, starting the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orth fought to preserve the Union, while the South fought to preserve sla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sumter"/>
          <p:cNvPicPr/>
          <p:nvPr/>
        </p:nvPicPr>
        <p:blipFill>
          <a:blip r:embed="rId1"/>
          <a:stretch/>
        </p:blipFill>
        <p:spPr>
          <a:xfrm>
            <a:off x="4495680" y="1752480"/>
            <a:ext cx="42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ivil War and the Emancipation Procla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in the war, Lincoln began to think about ending slavery in the South to help end the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eptember 22, 1862 he issued the Emancipation Proclamation which declared an end to slavery in the states in rebellion on January 1,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id it do?  Nothing.  It only freed slaves in the states that had sec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LINC0508"/>
          <p:cNvPicPr/>
          <p:nvPr/>
        </p:nvPicPr>
        <p:blipFill>
          <a:blip r:embed="rId1"/>
          <a:stretch/>
        </p:blipFill>
        <p:spPr>
          <a:xfrm>
            <a:off x="5121360" y="1828800"/>
            <a:ext cx="3128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d of the Civil War and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outh lost, and the states were forced to accept the 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 to the Constitution before they could be readmitted into the Un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3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mendment-It abolished slavery in the United Sta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was ratified in 186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The 13th Amendment of the U.S. Constitution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pture and 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capture, Africans were packed tightly into slave ship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ath rate of the “passengers” was 50%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E017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MMAG00373_0000[1]"/>
          <p:cNvPicPr/>
          <p:nvPr/>
        </p:nvPicPr>
        <p:blipFill>
          <a:blip r:embed="rId1"/>
          <a:stretch/>
        </p:blipFill>
        <p:spPr>
          <a:xfrm>
            <a:off x="2743200" y="1828800"/>
            <a:ext cx="3809880" cy="366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ddle Pass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map1c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tination, Auction, and Seas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Africans landed in Brazil with the least number landing in North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auctioned off to the highest bidd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s were put through a process of “seasoning” to get them ready for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learned an European language, were named an European name, and were shown labor requi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eginnings of Slavery in the United Sta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rtuguese and Spanish had already brought Africans to South and Latin Ameri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619, the first Africans were brought to the colony Jamestown, Virginia by the Dutch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009"/>
          <p:cNvPicPr/>
          <p:nvPr/>
        </p:nvPicPr>
        <p:blipFill>
          <a:blip r:embed="rId1"/>
          <a:stretch/>
        </p:blipFill>
        <p:spPr>
          <a:xfrm>
            <a:off x="4572000" y="1523880"/>
            <a:ext cx="4114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Not Enslave the Native Popul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tive Americans were highly likely to catch European disea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were familiar with the terrain and could escape easi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ad political allies that could fight against the “owners.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s for Using Enslaved African 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ximity-It only took 2-6 weeks to get to the colonies from the Caribbean at fir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perience-They had previous experience and knowledge working in sugar and rice produc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unity from diseases-Less likely to get sick due to prolonged contact over centur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escape possibilities-They did not know the land, had no allies, and were highly visible because of skin colo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hony Johns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an African brought to the colonies in the 162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btained his freedom, and purchased 250 acres of land in Virgini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owned at least one slave and white indentured serva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s shows that blacks were not thought of strictly as slaves until the 1660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very in the Colon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England colonies-no large plantation systems; slaves lived in cities and small fa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esapeake Bay colonies-large tobacco plantations; center of the domestic slave tra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olinas and Georgia-large rice and cotton plan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11:35Z</dcterms:created>
  <dc:creator>gr-lab</dc:creator>
  <dc:description/>
  <dc:language>en-US</dc:language>
  <cp:lastModifiedBy>zimmermanj3</cp:lastModifiedBy>
  <dcterms:modified xsi:type="dcterms:W3CDTF">2008-09-29T16:45:35Z</dcterms:modified>
  <cp:revision>4</cp:revision>
  <dc:subject/>
  <dc:title>Slavery</dc:title>
</cp:coreProperties>
</file>