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679-AA08-4FC8-9DF4-10BDCCD2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CE0-CD2B-4725-A259-44210C5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401-ADB6-4E4B-B5FF-075CD67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908-E231-4491-A229-3D907925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A26B-6C62-4AD2-A59C-706DC396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367-B69F-41E6-AB6D-0A6D9FF8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C793-D03E-42E0-9AF9-4082916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CB29-E339-4148-BE17-B79ADF2F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E5CF-8310-450B-B9C8-15A4B07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5CE5-F566-43A9-9496-6F33F8C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4C4-EF62-4721-8B9B-7535A5F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EB6-1910-4100-9800-21F7FA7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9E4B-663F-4FDA-9EEF-0ED5222A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B1BF-447B-4DF2-9A52-CA6428A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27B2-A253-43D7-BC6E-9DF25B8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4667-6AAF-42D0-862D-C18038D7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C295-1C93-4718-B364-4BC05933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50C-064C-48DB-9797-D629CB34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A00-113E-4184-A098-0A5F745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1E6-19A1-4BDC-BCF1-A28D5092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FC4-03F8-4F54-AADB-CA420E49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B99-6A9E-43A4-8176-BDEE300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234-D2B7-4F4F-BC2D-C88534B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E46-BC63-40A9-BA05-E41696D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C06-CC03-44C4-8F8F-B8C1E37C48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E3F-1AAB-40CF-BADE-8B43EFCAF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sh Zimmer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C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ffects of the American Revolution and the Constit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NW0075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of a Sl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had Sundays off and they went to churc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could not read or write, and it was illegal for them to lear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Codes-They could not:  leave their home without a pass, carry a weapon, gather in groups,  own property, legally marry, defend themselves against a white person, or speak in cour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ight-Slaves would runawa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uancy-Flight for a short amount of time and then the slave came bac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usal to reproduce-Women refused to have childre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vert Action-Slaves would sometimes kill animals, destroy crops, start fires, steal stuff, break tools, poison f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NW0107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nishments included:  whipping, branding, being sold, gagged (silence), and other torturous methods we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480" y="3916080"/>
            <a:ext cx="400032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HW0051"/>
          <p:cNvPicPr/>
          <p:nvPr/>
        </p:nvPicPr>
        <p:blipFill>
          <a:blip r:embed="rId1"/>
          <a:stretch/>
        </p:blipFill>
        <p:spPr>
          <a:xfrm>
            <a:off x="4572000" y="22860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NW0030"/>
          <p:cNvPicPr/>
          <p:nvPr/>
        </p:nvPicPr>
        <p:blipFill>
          <a:blip r:embed="rId2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jor slave revolt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o Rebellion-failed revolt in South Carolina in 17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riel Prosser-led failed revolt in Virginia in 1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mark Vessey-led failed revolt in South Carolina in 182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 Turner-killed 60 white people in Virginia in 1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lifornia comes in the Union (United States) as a fre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ah and New Mexico territories are created-no mention of 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utlaws slave trade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gitive Slave Act-requires northerners to return escaped slaves to mas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red Scott Dec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case went all the way to the Supreme Court, where Scott loses because he was not considered a citizen, thus could not sue in federal court.  (He was “property” and could be taken anywhere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of 1860 and the Start of the Civil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sumter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ivil War and the Emancipation Procla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LINC0508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Civil War and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outh lost, and the states were forced to accept the 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-It abolished slavery in the United Sta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The 13th Amendment of the U.S. Constitution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ture and 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E017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MMAG00373_0000[1]"/>
          <p:cNvPicPr/>
          <p:nvPr/>
        </p:nvPicPr>
        <p:blipFill>
          <a:blip r:embed="rId1"/>
          <a:stretch/>
        </p:blipFill>
        <p:spPr>
          <a:xfrm>
            <a:off x="2743200" y="1828800"/>
            <a:ext cx="3809880" cy="366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map1c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tination, Auction, and Seas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Africans landed in Brazil with the least number landing in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put through a process of “seasoning” to get them ready for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learned an European language, were named an European name, and were shown labor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s of Slavery in the Unite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619, the first Africans were brought to the colony Jamestown, Virginia by the Dutch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009"/>
          <p:cNvPicPr/>
          <p:nvPr/>
        </p:nvPicPr>
        <p:blipFill>
          <a:blip r:embed="rId1"/>
          <a:stretch/>
        </p:blipFill>
        <p:spPr>
          <a:xfrm>
            <a:off x="457200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Not Enslave the Native Popul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tive Americans were highly likely to catch European disea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familiar with the terrain and could escape easi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ad political allies that could fight against the “owners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s for Using Enslaved African 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ximity-It only took 2-6 weeks to get to the colonies from the Caribbean at fir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rience-They had previous experience and knowledge working in sugar and rice p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unity from diseases-Less likely to get sick due to prolonged contact over centur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escape possibilities-They did not know the land, had no allies, and were highly visible because of skin col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hony John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an African brought to the colonies in the 162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btained his freedom, and purchased 250 acres of land in Virgini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wned at least one slave and white indentured serva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shows that blacks were not thought of strictly as slaves until the 166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very in the Colon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England colonies-no large plantation systems; slaves lived in cities and small fa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sapeake Bay colonies-large tobacco plantations; center of the domestic slave tra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olinas and Georgia-large rice and cotton plan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zimmermanj3</cp:lastModifiedBy>
  <dcterms:modified xsi:type="dcterms:W3CDTF">2008-09-29T16:45:35Z</dcterms:modified>
  <cp:revision>4</cp:revision>
  <dc:subject/>
  <dc:title>Slavery</dc:title>
</cp:coreProperties>
</file>