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D16-D355-49DB-9F6B-4C546A57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A93-DE3D-45C4-BED5-C567ADB3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DE8-31E9-4D26-AAFF-27C81960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821-66D3-4BD1-B4EE-31D2808C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3186-6BE0-41A2-92B8-4E0D13B6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5557-3A45-4038-AC15-50FE68A3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D6D5-6885-4AE2-A7DB-0DAA036C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5C1E-E4DD-4732-A40D-0995A7BD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1BA7-C243-4C08-8854-40180FE5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FC35-284F-4E39-8199-C1EFC979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834E-1BFF-4148-8C72-B747ECCD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0C4-A27A-49BF-993E-E3EFE4D5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5BE2-0141-47E0-8342-4C541C1E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3D1E-8761-4FC3-B169-203BBD4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262E-AE33-4ED0-853C-6B764102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4991-6F4F-4F77-93EB-70071609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4416-940C-49CA-9F30-7E618AEF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5F8-F7E2-49C4-94E6-2F46BBAB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E5B-A24B-4B6F-B818-C1718327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37D-CD69-4B8C-AF84-D6B95881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61B-6549-40DD-9039-FF744595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B07-771D-4316-A6FA-9106BF49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886-C954-4E1B-AF3E-3AC54B95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FE5-C96D-457F-B08B-2E107C84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4AD3-B658-45F4-9EE5-ECD435ED5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97ED-7E2A-4B41-9CB3-EC75B0C02B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erviewing Sty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ing how to adapt to different interview styles could land you that first big job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j0233018"/>
          <p:cNvPicPr/>
          <p:nvPr/>
        </p:nvPicPr>
        <p:blipFill>
          <a:blip r:embed="rId1"/>
          <a:stretch/>
        </p:blipFill>
        <p:spPr>
          <a:xfrm>
            <a:off x="3276720" y="2286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. The Quiz Ma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Acts more like a game show host than 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tervie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Asks rapid fire questions in an attempt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ress you out or stum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Asks bizarre or irrelevant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Seems to be more interested in as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questions than finding a potential employ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. The Quiz Ma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Remain calm and focus on answering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ques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Don’t feel rushed by rapid fire questions. Tak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your time and ans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If you don’t know the answer to a questio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on’t lie. Admit you don’t know and move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Ask questions of your own to make sure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terview doesn’t turn into an interrog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. The Chauvinist/Femin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Treats you unfairly because of your ge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May be openly flirtatious or host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Makes inappropriate comments about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ersonal appearance or dr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Body language may be invasive or hosti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invasive: touching of the lower back, arm, or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hair, close talking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. The Chauvinist/Femin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Be a professional. Let the interviewer know right awa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you’re there to be taken serious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2. DO NOT flirt back. It sets a dangero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ecedent if you get the jo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3. Return focus of the conversation to you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ofessional skills and the jo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4. Subtly reject invasive body language without caus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 scen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. The Disinterested Intervie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Seems bored with everything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Little or no feedback to your ans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Preoccupied with “toys” (cell phon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lackberry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Stares blankly at your re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5. Guilty of negative body language (lo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ghs, rolling eyes, slouching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. The Disinterested Intervie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Stay calm. DO NOT get ang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Politely acknowledge the distrac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(example: “If there’s something you need to take care of, I’d be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happy to wait outside.”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Keep your energy level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Ask questions to redirect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terviewer back into the convers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. The Cheerlea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High energy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Thinks his/her company is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eatest company known to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Offended by lack of knowledge abou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comp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Enthusiastic and perso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. The Cheerlea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1. Try to match his/her energy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2. Flaunt your knowledge of the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3. Act as if working for the company is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 “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ream come tru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4. Keep the conversation on a pers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level if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. The Elit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Doesn’t think you’re good enough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job and lets you know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Indirectly belittles or insults your work history,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schooling, or appear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Challenges you with difficult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Guilty of aggressive body languag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leaning forward, invasion of personal space, staring, etc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. The Elit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Be confident. DO NOT BACK DOW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Laugh off insults, but do not return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Play to the interviewer’s ego. Acknowledge his superior position and let him know he’s someone you want to learn fro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Display confident (not aggressive) body langu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. The Comedi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 Acts overly friendly or famili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. Tells corny, inappropriate, or offens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joke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whether you want to hear them or n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. Expects you to be a willing 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. Guilty of intrusive body languag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slapping on the back/shoulder, eternal handshake, etc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. The Comedi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Try to match the energy lev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Laugh politely at the jokes (even if they’re no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hat funny) but don’t tell any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Be personable, but let the interviewer kn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you’re serious about attaining the jo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Just grin and bear the intrusive body language – if you want the job, shake that han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7:52:26Z</dcterms:created>
  <dc:creator>Sweet Eye Candy</dc:creator>
  <dc:description/>
  <dc:language>en-US</dc:language>
  <cp:lastModifiedBy>troxelld1</cp:lastModifiedBy>
  <dcterms:modified xsi:type="dcterms:W3CDTF">2009-05-11T14:43:58Z</dcterms:modified>
  <cp:revision>4</cp:revision>
  <dc:subject/>
  <dc:title>Interviewing Styles</dc:title>
</cp:coreProperties>
</file>