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5135-E666-42E6-A4C8-F3D0CF549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490B-591F-4BF3-B1E3-D9E4DABB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0002-1C7D-4DEB-9233-B0DB6EDFE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73C4-BE49-4DAE-8013-3765270D6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A76D-2E5D-48FC-A032-140E6C62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591E-838B-4DDB-9A86-6E15ABFA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A93A-3FF1-4E54-AF84-732F09F8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D9CD-BF77-4939-A61B-F156C656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1942-3B6B-41F6-9222-EED82798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51D3-0DA4-4AB7-A219-E24935EA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46A6-0E5B-47BB-82CA-4CC8D466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3A37-5C31-4186-875E-8B1116BF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AD33-3D2E-401D-8E1A-52C4077C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CE5E-1DDB-4C83-BD02-DF6762E4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F6B4-2A0A-482F-9BC2-8CC10B0F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6AC1-C041-4010-8B52-975A332D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9054-D4CC-4807-8411-265E6F60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EA51-0C27-4A2F-8E4E-3464062B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592F-E512-4B63-BDCE-025FE9F6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B902-1915-4EAE-8DB9-E4BDE479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7EAB-4FB8-4493-9198-65CBECF9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5111-516A-4C23-95F2-71E7D7A0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AE3E-7B58-4C82-ACFA-B2F46BDD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5C5E-AC96-438E-88ED-9B78F4F6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1441-0393-4669-8F51-AEAEA5937C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68F7-3A12-4DE6-9277-BFFE7D86F0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124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terviewing Sty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ing how to adapt to different interview styles could land you that first big job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j0233018"/>
          <p:cNvPicPr/>
          <p:nvPr/>
        </p:nvPicPr>
        <p:blipFill>
          <a:blip r:embed="rId1"/>
          <a:stretch/>
        </p:blipFill>
        <p:spPr>
          <a:xfrm>
            <a:off x="3276720" y="2286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. The Quiz Mas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acteristic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1. Acts more like a game show host than a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nterview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2. Asks rapid fire questions in an attempt 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tress you out or stump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3. Asks bizarre or irrelevant ques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4. Seems to be more interested in ask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questions than finding a potential employ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. The Quiz Mas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How to deal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1. Remain calm and focus on answering th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question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2. Don’t feel rushed by rapid fire questions. Tak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your time and answ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3. If you don’t know the answer to a question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don’t lie. Admit you don’t know and move 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4. Ask questions of your own to make sure th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interview doesn’t turn into an interrogatio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I. The Chauvinist/Femini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acteristic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1. Treats you unfairly because of your gend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2. May be openly flirtatious or hosti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3. Makes inappropriate comments about you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ersonal appearance or dr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4. Body language may be invasive or hosti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(invasive: touching of the lower back, arm, or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hair, close talking, 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I. The Chauvinist/Femini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How to deal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1.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Be a professional. Let the interviewer know right awa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you’re there to be taken seriousl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2. DO NOT flirt back. It sets a dangerou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precedent if you get the job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3. Return focus of the conversation to you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professional skills and the jo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4. Subtly reject invasive body language without caus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a scen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. The Disinterested Interview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istic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1. Seems bored with everything you s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2. Little or no feedback to your answ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3. Preoccupied with “toys” (cell phon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blackberry, 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4. Stares blankly at your resu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5. Guilty of negative body language (lo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ghs, rolling eyes, slouching, 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. The Disinterested Interview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How to deal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1. Stay calm. DO NOT get angr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2. Politely acknowledge the distraction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(example: “If there’s something you need to take care of, I’d be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happy to wait outside.”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3. Keep your energy level 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4. Ask questions to redirect th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interviewer back into the convers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I. The Cheerlead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haracteristic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1. High energy leve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2. Thinks his/her company is th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eatest company known to 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3. Offended by lack of knowledge abou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e comp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4. Enthusiastic and person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I. The Cheerlead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How to deal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1. Try to match his/her energy leve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2. Flaunt your knowledge of the comp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3. Act as if working for the company is 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   “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dream come true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4. Keep the conversation on a person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level if possi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II. The Eliti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acteristic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1. Doesn’t think you’re good enough fo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e job and lets you know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2. Indirectly belittles or insults your work history,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schooling, or appear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3. Challenges you with difficult ques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4. Guilty of aggressive body languag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(leaning forward, invasion of personal space, staring, etc.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II. The Eliti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How to deal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1. Be confident. DO NOT BACK DOW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2. Laugh off insults, but do not return th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3. Play to the interviewer’s ego. Acknowledge his superior position and let him know he’s someone you want to learn from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4. Display confident (not aggressive) body langua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V. The Comedia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istic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. Acts overly friendly or famili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2. Tells corny, inappropriate, or offensiv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jokes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(whether you want to hear them or no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3. Expects you to be a willing audi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4. Guilty of intrusive body languag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(slapping on the back/shoulder, eternal handshake, etc.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V. The Comedia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How to deal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1. Try to match the energy leve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2. Laugh politely at the jokes (even if they’re no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that funny) but don’t tell any of your ow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3. Be personable, but let the interviewer know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you’re serious about attaining the job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4. Just grin and bear the intrusive body language – if you want the job, shake that hand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9T17:52:26Z</dcterms:created>
  <dc:creator>Sweet Eye Candy</dc:creator>
  <dc:description/>
  <dc:language>en-US</dc:language>
  <cp:lastModifiedBy>troxelld1</cp:lastModifiedBy>
  <dcterms:modified xsi:type="dcterms:W3CDTF">2009-05-11T14:43:58Z</dcterms:modified>
  <cp:revision>4</cp:revision>
  <dc:subject/>
  <dc:title>Interviewing Styles</dc:title>
</cp:coreProperties>
</file>