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AB9-88DA-4FF9-B49F-D7158E49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450-4B8D-4083-9292-E5FA3CC9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F2F-82D2-42A0-8C65-A80265EA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9BB-D4A2-491E-B687-0D6C1EFC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640B-1B6C-4036-B621-8059D6D4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A6F7-A6C0-40F2-B20C-25E059BB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A64E-1573-4B32-BFE0-5337CDB7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32AF-4E3B-446D-893C-754F5BB4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926D-205D-4DD0-9435-2D51AD0D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7E15-48DC-4FD1-AE8A-EE230035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759C-A10C-4A23-B9F7-F7888F2F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E56-6F3D-4FD7-BB85-BE01D8F9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2E57-B7DB-4B77-8051-BF4E94C8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9FEA-4245-449F-8A7D-82AEDDEE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37E6-3424-4008-BC7D-4F85591E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8BB4-679E-44CE-BB7B-7CF493CB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803E-B432-476A-A884-0ED017F4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08A-C499-438B-A078-7C0EBBD2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D15-D429-4FF6-86C8-4646749D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FC8-AE69-413E-BDD6-C18A5C2D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78E-D1E6-4049-B24A-5466CF6F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54C-4D21-4722-B27F-32EB4688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A6F-2862-46F6-9751-D30B5418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619-4AB2-4FAE-843F-5B95484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3E38-E598-414A-B5C1-19BDB375ED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9DB9-2F19-417A-96BB-1A75B9269B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terviewing Sty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ing how to adapt to different interview styles could land you that first big job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j0233018"/>
          <p:cNvPicPr/>
          <p:nvPr/>
        </p:nvPicPr>
        <p:blipFill>
          <a:blip r:embed="rId1"/>
          <a:stretch/>
        </p:blipFill>
        <p:spPr>
          <a:xfrm>
            <a:off x="3276720" y="2286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. The Quiz Mas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Acts more like a game show host than 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tervie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Asks rapid fire questions in an attempt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ress you out or stump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Asks bizarre or irrelevant ques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Seems to be more interested in as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questions than finding a potential employ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. The Quiz Mas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Remain calm and focus on answering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ques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Don’t feel rushed by rapid fire questions. Tak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your time and answ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If you don’t know the answer to a question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on’t lie. Admit you don’t know and move 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Ask questions of your own to make sure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terview doesn’t turn into an interroga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. The Chauvinist/Femin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Treats you unfairly because of your ge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May be openly flirtatious or host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Makes inappropriate comments about yo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ersonal appearance or dr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Body language may be invasive or hosti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invasive: touching of the lower back, arm, or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hair, close talking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. The Chauvinist/Femin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1.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Be a professional. Let the interviewer know right awa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you’re there to be taken serious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2. DO NOT flirt back. It sets a dangerou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recedent if you get the jo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3. Return focus of the conversation to you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rofessional skills and the jo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4. Subtly reject invasive body language without caus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a scen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. The Disinterested Intervie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Seems bored with everything you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Little or no feedback to your ans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Preoccupied with “toys” (cell phon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lackberry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Stares blankly at your re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5. Guilty of negative body language (lo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ghs, rolling eyes, slouching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. The Disinterested Intervie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Stay calm. DO NOT get angr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Politely acknowledge the distrac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(example: “If there’s something you need to take care of, I’d be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happy to wait outside.”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Keep your energy level 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Ask questions to redirect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terviewer back into the convers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. The Cheerlea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High energy lev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Thinks his/her company is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eatest company known to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Offended by lack of knowledge abou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 comp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Enthusiastic and perso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. The Cheerlea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1. Try to match his/her energy lev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2. Flaunt your knowledge of the comp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3. Act as if working for the company is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  “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ream come tru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4. Keep the conversation on a pers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level if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. The Elit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. Doesn’t think you’re good enough f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 job and lets you know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 Indirectly belittles or insults your work history,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schooling, or appear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3. Challenges you with difficult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 Guilty of aggressive body languag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leaning forward, invasion of personal space, staring, etc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. The Elit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Be confident. DO NOT BACK DOW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Laugh off insults, but do not return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Play to the interviewer’s ego. Acknowledge his superior position and let him know he’s someone you want to learn fro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Display confident (not aggressive) body langu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V. The Comedi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 Acts overly friendly or famili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. Tells corny, inappropriate, or offens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joke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whether you want to hear them or no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3. Expects you to be a willing au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. Guilty of intrusive body languag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slapping on the back/shoulder, eternal handshake, etc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V. The Comedi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How to deal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1. Try to match the energy lev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2. Laugh politely at the jokes (even if they’re no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that funny) but don’t tell any of your 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. Be personable, but let the interviewer kno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you’re serious about attaining the job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4. Just grin and bear the intrusive body language – if you want the job, shake that han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7:52:26Z</dcterms:created>
  <dc:creator>Sweet Eye Candy</dc:creator>
  <dc:description/>
  <dc:language>en-US</dc:language>
  <cp:lastModifiedBy>troxelld1</cp:lastModifiedBy>
  <dcterms:modified xsi:type="dcterms:W3CDTF">2009-05-11T14:43:58Z</dcterms:modified>
  <cp:revision>4</cp:revision>
  <dc:subject/>
  <dc:title>Interviewing Styles</dc:title>
</cp:coreProperties>
</file>