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5D9-174D-4B6B-9BAA-104678DF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AE1-93F3-4364-97FB-89304D7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F66-C243-4C5F-8831-9E06A350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FA2-9E0A-4A7E-B33C-4F6681D8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81EB-950F-49A5-B541-C8FD9F00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19DE-3494-4188-8333-3E4A4DE9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934-6836-45A0-91C8-1404DC67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583C-25DA-4757-B92F-1F34212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8D38-6374-4FCC-AB4B-AF75FF25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EEA-C829-4CE7-9E45-7E7A10B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EDD3-344F-46F3-ADED-93D0762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D31-701B-4BAF-8C62-D3C752C0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B20C-C73F-442C-A91F-0250357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864B-E283-4851-BA5B-DF72F66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C495-4E59-4AB0-9975-D0D4957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6FB-7443-4396-B2AF-473F27A7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CEBA-26FF-443E-A7DD-44A79EB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725-7C48-4B7F-A755-B70478EF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3AF-BA0E-48E8-9A55-6DE9B49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285-448D-4B2F-850B-5DF6F2ED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A7E-2591-4A39-9D96-7FB30677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F59-ED16-46A8-846B-5B3C5AC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128-DAA2-4F2B-85E0-716FA91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A60-C828-45B9-8471-EE6BC0D2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7CB-19EE-4EB0-9550-67A1D25AE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B760-251A-466E-8970-FD3A761215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viewing Sty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ing how to adapt to different interview styles could land you that first big job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j0233018"/>
          <p:cNvPicPr/>
          <p:nvPr/>
        </p:nvPicPr>
        <p:blipFill>
          <a:blip r:embed="rId1"/>
          <a:stretch/>
        </p:blipFill>
        <p:spPr>
          <a:xfrm>
            <a:off x="3276720" y="2286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Acts more like a game show host than 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tervie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Asks rapid fire questions in an attempt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ress you out or stum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Asks bizarre or irrelevant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eems to be more interested in as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questions than finding a potential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Remain calm and focus on answering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ques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Don’t feel rushed by rapid fire questions. Tak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r time and ans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If you don’t know the answer to a ques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on’t lie. Admit you don’t know and mov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of your own to make sure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 doesn’t turn into an interrog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Treats you unfairly because of your ge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May be openly flirtatious or host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Makes inappropriate comments about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ersonal appearance or d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Body language may be invasive or hosti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invasive: touching of the lower back, arm, 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hair, close talk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 a professional. Let the interviewer know right aw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you’re there to be taken serious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. DO NOT flirt back. It sets a dangero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ecedent if you get the jo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3. Return focus of the conversation to you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ofessional skills and the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4. Subtly reject invasive body language without caus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 sce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Seems bored with everything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Little or no feedback to your 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Preoccupied with “toys” (cell phon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ackberr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tares blankly at your re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5. Guilty of negative body language (lo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ghs, rolling eyes, slouch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Stay calm. DO NOT get ang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Politely acknowledge the distrac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(example: “If there’s something you need to take care of, I’d be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happy to wait outside.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Keep your energy level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to redirect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er back into the convers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High energy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Thinks his/her company is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eatest company known to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Offended by lack of knowledge abo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comp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Enthusiastic and perso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1. Try to match his/her energy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2. Flaunt your knowledge of the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3. Act as if working for the company is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“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ream come tr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4. Keep the conversation on a pers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evel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Doesn’t think you’re good enough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job and lets you know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Indirectly belittles or insults your work history,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schooling, or appear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Challenges you with difficult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Guilty of aggressive body languag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leaning forward, invasion of personal space, staring, etc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Be confident. DO NOT BACK DOW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off insults, but do not retur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Play to the interviewer’s ego. Acknowledge his superior position and let him know he’s someone you want to learn fro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Display confident (not aggressive) body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 Acts overly friendly or famili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. Tells corny, inappropriate, or offen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joke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whether you want to hear them or n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 Expects you to be a willing 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. Guilty of intrusive body languag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slapping on the back/shoulder, eternal handshake, etc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Try to match the energy lev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politely at the jokes (even if they’re no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hat funny) but don’t tell any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Be personable, but let the interviewer kn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’re serious about attaining the jo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Just grin and bear the intrusive body language – if you want the job, shake that han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7:52:26Z</dcterms:created>
  <dc:creator>Sweet Eye Candy</dc:creator>
  <dc:description/>
  <dc:language>en-US</dc:language>
  <cp:lastModifiedBy>troxelld1</cp:lastModifiedBy>
  <dcterms:modified xsi:type="dcterms:W3CDTF">2009-05-11T14:43:58Z</dcterms:modified>
  <cp:revision>4</cp:revision>
  <dc:subject/>
  <dc:title>Interviewing Styles</dc:title>
</cp:coreProperties>
</file>