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ED7-3D86-4D8B-8958-CDD03273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8D2-33E3-4C7A-B6B9-86D52709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32F-5FF1-49B7-9564-546ECAB7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519-09E3-49F7-92DD-31488E19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2C86-33DE-4DBF-8B26-881B7338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F402-D3C0-4AD7-AA1D-ED38C992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4905-E35B-4629-92FB-AC97489F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9311-2998-4DF8-9088-D5AE11E2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F0E1-21BB-465E-8002-6704EF1A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0BE0-58AE-45C8-9AC3-E826E331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D2F4-DA60-4E4F-A810-A3084605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1C3-6C80-4C71-8D26-DBFDFE78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DB3D-F19A-4F71-AD00-949C8CD6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FEF7-E498-4262-A89C-4AF6D6E0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7477-5859-4487-AAB9-2F781D41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3581-754B-4679-90B8-E55CDCB3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3953-0EBF-4EAD-94BF-DAF8C427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F36-BE32-4F96-906C-E4B3CDB3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150-4D27-4610-957E-035A4FF7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EDD-74F4-4BF9-96EF-C6EBF194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4B3-8F53-4084-8F0F-5B8E7109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92F-DFBF-4B7A-BE1B-DEAA3655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B18-A9CF-4D4F-826B-357345CA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8E2-455A-4A2F-82A7-7F057E32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DDE2-0C3A-48A3-A713-CEB5626739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C9C3-C068-4431-A2C2-7F9004858E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Slavery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sh Zimmerm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C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ffects of the American Revolution and the Constit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adual abolition of slavery in the northern colon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d of the Atlantic Slave Trade in 180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trenchment of slavery in the South with the invention of the cotton gin in 1793 by Eli Whitne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NW0075"/>
          <p:cNvPicPr/>
          <p:nvPr/>
        </p:nvPicPr>
        <p:blipFill>
          <a:blip r:embed="rId1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fe of a Sla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slaves had Sundays off and they went to churc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slaves could not read or write, and it was illegal for them to lear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 Codes-They could not:  leave their home without a pass, carry a weapon, gather in groups,  own property, legally marry, defend themselves against a white person, or speak in cour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light-Slaves would runawa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uancy-Flight for a short amount of time and then the slave came bac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fusal to reproduce-Women refused to have childre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vert Action-Slaves would sometimes kill animals, destroy crops, start fires, steal stuff, break tools, poison foo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NW0107"/>
          <p:cNvPicPr/>
          <p:nvPr/>
        </p:nvPicPr>
        <p:blipFill>
          <a:blip r:embed="rId1"/>
          <a:stretch/>
        </p:blipFill>
        <p:spPr>
          <a:xfrm>
            <a:off x="4572000" y="167652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nish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often brutally punished for misbehav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unishments included:  whipping, branding, being sold, gagged (silence), and other torturous methods were us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6480" y="3916080"/>
            <a:ext cx="4000320" cy="19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HW0051"/>
          <p:cNvPicPr/>
          <p:nvPr/>
        </p:nvPicPr>
        <p:blipFill>
          <a:blip r:embed="rId1"/>
          <a:stretch/>
        </p:blipFill>
        <p:spPr>
          <a:xfrm>
            <a:off x="4572000" y="2286000"/>
            <a:ext cx="38862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NW0030"/>
          <p:cNvPicPr/>
          <p:nvPr/>
        </p:nvPicPr>
        <p:blipFill>
          <a:blip r:embed="rId2"/>
          <a:stretch/>
        </p:blipFill>
        <p:spPr>
          <a:xfrm>
            <a:off x="6477120" y="304920"/>
            <a:ext cx="14652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ol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 major slave revolt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no Rebellion-failed revolt in South Carolina in 173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riel Prosser-led failed revolt in Virginia in 18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nmark Vessey-led failed revolt in South Carolina in 182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t Turner-killed 60 white people in Virginia in 183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romise of 18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lifornia comes in the Union (United States) as a free st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tah and New Mexico territories are created-no mention of slavery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utlaws slave trade in Washington, D.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gitive Slave Act-requires northerners to return escaped slaves to mast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red Scott Deci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red Scott was a slave who was taken to a free territory by his owner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 sued for his freedom because he lived in the free territo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 case went all the way to the Supreme Court, where Scott loses because he was not considered a citizen, thus could not sue in federal court.  (He was “property” and could be taken anywhere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 of 1860 and the Start of the Civil W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raham Lincoln was elected president in 1860 without any southern electoral vo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southern states quickly seceded from the Union, South Carolina leading the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thern troops fired upon Fort Sumter, starting the Civil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orth fought to preserve the Union, while the South fought to preserve slav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sumter"/>
          <p:cNvPicPr/>
          <p:nvPr/>
        </p:nvPicPr>
        <p:blipFill>
          <a:blip r:embed="rId1"/>
          <a:stretch/>
        </p:blipFill>
        <p:spPr>
          <a:xfrm>
            <a:off x="4495680" y="1752480"/>
            <a:ext cx="4267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ivil War and the Emancipation Procla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in the war, Lincoln began to think about ending slavery in the South to help end the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eptember 22, 1862 he issued the Emancipation Proclamation which declared an end to slavery in the states in rebellion on January 1, 186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id it do?  Nothing.  It only freed slaves in the states that had sece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LINC0508"/>
          <p:cNvPicPr/>
          <p:nvPr/>
        </p:nvPicPr>
        <p:blipFill>
          <a:blip r:embed="rId1"/>
          <a:stretch/>
        </p:blipFill>
        <p:spPr>
          <a:xfrm>
            <a:off x="5121360" y="1828800"/>
            <a:ext cx="3128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 of the Civil War and the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South lost, and the states were forced to accept the 13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mendment to the Constitution before they could be readmitted into the Un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mendment-It abolished slavery in the United Stat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t was ratified in 186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The 13th Amendment of the U.S. Constitution"/>
          <p:cNvPicPr/>
          <p:nvPr/>
        </p:nvPicPr>
        <p:blipFill>
          <a:blip r:embed="rId1"/>
          <a:stretch/>
        </p:blipFill>
        <p:spPr>
          <a:xfrm>
            <a:off x="4267080" y="18288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pture and the Middle Pas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fter capture, Africans were packed tightly into slave ship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ath rate of the “passengers” was 50%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E017"/>
          <p:cNvPicPr/>
          <p:nvPr/>
        </p:nvPicPr>
        <p:blipFill>
          <a:blip r:embed="rId1"/>
          <a:stretch/>
        </p:blipFill>
        <p:spPr>
          <a:xfrm>
            <a:off x="4648320" y="167652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MMAG00373_0000[1]"/>
          <p:cNvPicPr/>
          <p:nvPr/>
        </p:nvPicPr>
        <p:blipFill>
          <a:blip r:embed="rId1"/>
          <a:stretch/>
        </p:blipFill>
        <p:spPr>
          <a:xfrm>
            <a:off x="2743200" y="1828800"/>
            <a:ext cx="3809880" cy="3664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4343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3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iddle Pas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map1c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tination, Auction, and Seaso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Africans landed in Brazil with the least number landing in North Americ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auctioned off to the highest bidd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put through a process of “seasoning” to get them ready for 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learned an European language, were named an European name, and were shown labor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eginnings of Slavery in the United St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ortuguese and Spanish had already brought Africans to South and Latin Americ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1619, the first Africans were brought to the colony Jamestown, Virginia by the Dutch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H009"/>
          <p:cNvPicPr/>
          <p:nvPr/>
        </p:nvPicPr>
        <p:blipFill>
          <a:blip r:embed="rId1"/>
          <a:stretch/>
        </p:blipFill>
        <p:spPr>
          <a:xfrm>
            <a:off x="4572000" y="1523880"/>
            <a:ext cx="4114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Not Enslave the Native Popula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tive Americans were highly likely to catch European diseas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were familiar with the terrain and could escape easi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ad political allies that could fight against the “owners.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sons for Using Enslaved African Lab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ximity-It only took 2-6 weeks to get to the colonies from the Caribbean at fir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erience-They had previous experience and knowledge working in sugar and rice produc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munity from diseases-Less likely to get sick due to prolonged contact over centuri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escape possibilities-They did not know the land, had no allies, and were highly visible because of skin colo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thony Johns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an African brought to the colonies in the 1620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obtained his freedom, and purchased 250 acres of land in Virginia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owned at least one slave and white indentured serva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s shows that blacks were not thought of strictly as slaves until the 1660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lavery in the Colon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England colonies-no large plantation systems; slaves lived in cities and small fa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esapeake Bay colonies-large tobacco plantations; center of the domestic slave trad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rolinas and Georgia-large rice and cotton plant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0:11:35Z</dcterms:created>
  <dc:creator>gr-lab</dc:creator>
  <dc:description/>
  <dc:language>en-US</dc:language>
  <cp:lastModifiedBy>zimmermanj3</cp:lastModifiedBy>
  <dcterms:modified xsi:type="dcterms:W3CDTF">2008-09-29T16:45:35Z</dcterms:modified>
  <cp:revision>4</cp:revision>
  <dc:subject/>
  <dc:title>Slavery</dc:title>
</cp:coreProperties>
</file>