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10.gif" ContentType="image/gi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DD9C-92E4-4526-A8AA-D62325E6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5BC6-78BD-497D-9F91-FE15893D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2330-42E3-43A7-A2D6-5719BACA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61E0-E280-4311-B33D-770A2CEE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4993-0A40-4353-AAB0-32AD265F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9D40-DEB4-4121-8FAA-26E5E173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2400-E648-47ED-BB07-6ABF1C2A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D8FD-F1B8-4014-B36F-BC098145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8C39-0F1C-4A8F-A2FB-9EAD9F25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16D2-F8A2-439F-9592-370874A0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0251-87CA-47B3-BC98-C5E0EC29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D7F0-FE89-4BA2-AE0E-B4C11D90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4A32-B389-403F-86AD-F119D538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296B-C354-4B2A-AE75-6E4F1322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72D3-B657-4E59-817E-56C887BB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B65E-E4A7-46F8-B970-D1CBEF5D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41C6-117D-4E09-A79C-918BB521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681D-669B-4B90-A05D-48AD76CA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1971-8E3C-47B9-9868-6E72C72D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95F9-DDF2-4B1D-89F6-D5B4B86D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EC9-EEFF-4445-831F-BBFF6537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6338-F439-4C29-99EF-F7A03729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AE6A-AED4-47B8-BEE5-03DC5465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7D08-4DDF-4AD3-B3C9-3818ABC5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D1DC-C171-47CC-8929-BD65285389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92F8-8BB4-426A-8C8A-532269928A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Slavery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osh Zimmerm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CT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ffects of the American Revolution and the Constit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radual abolition of slavery in the northern colon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d of the Atlantic Slave Trade in 1808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trenchment of slavery in the South with the invention of the cotton gin in 1793 by Eli Whitne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NW0075"/>
          <p:cNvPicPr/>
          <p:nvPr/>
        </p:nvPicPr>
        <p:blipFill>
          <a:blip r:embed="rId1"/>
          <a:stretch/>
        </p:blipFill>
        <p:spPr>
          <a:xfrm>
            <a:off x="4648320" y="1752480"/>
            <a:ext cx="3962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fe of a Sla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st slaves had Sundays off and they went to church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st slaves could not read or write, and it was illegal for them to lear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 Codes-They could not:  leave their home without a pass, carry a weapon, gather in groups,  own property, legally marry, defend themselves against a white person, or speak in cour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ista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light-Slaves would runaway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ruancy-Flight for a short amount of time and then the slave came back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fusal to reproduce-Women refused to have children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vert Action-Slaves would sometimes kill animals, destroy crops, start fires, steal stuff, break tools, poison foo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6" descr="NW0107"/>
          <p:cNvPicPr/>
          <p:nvPr/>
        </p:nvPicPr>
        <p:blipFill>
          <a:blip r:embed="rId1"/>
          <a:stretch/>
        </p:blipFill>
        <p:spPr>
          <a:xfrm>
            <a:off x="4572000" y="1676520"/>
            <a:ext cx="4191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nish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s were often brutally punished for misbehav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unishments included:  whipping, branding, being sold, gagged (silence), and other torturous methods were us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6480" y="3916080"/>
            <a:ext cx="4000320" cy="19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7" descr="HW0051"/>
          <p:cNvPicPr/>
          <p:nvPr/>
        </p:nvPicPr>
        <p:blipFill>
          <a:blip r:embed="rId1"/>
          <a:stretch/>
        </p:blipFill>
        <p:spPr>
          <a:xfrm>
            <a:off x="4572000" y="2286000"/>
            <a:ext cx="3886200" cy="373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NW0030"/>
          <p:cNvPicPr/>
          <p:nvPr/>
        </p:nvPicPr>
        <p:blipFill>
          <a:blip r:embed="rId2"/>
          <a:stretch/>
        </p:blipFill>
        <p:spPr>
          <a:xfrm>
            <a:off x="6477120" y="304920"/>
            <a:ext cx="146520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iol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4 major slave revolts-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ono Rebellion-failed revolt in South Carolina in 173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briel Prosser-led failed revolt in Virginia in 18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nmark Vessey-led failed revolt in South Carolina in 182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t Turner-killed 60 white people in Virginia in 183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romise of 185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lifornia comes in the Union (United States) as a free sta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tah and New Mexico territories are created-no mention of slavery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utlaws slave trade in Washington, D.C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gitive Slave Act-requires northerners to return escaped slaves to mast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red Scott Deci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red Scott was a slave who was taken to a free territory by his owner.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e sued for his freedom because he lived in the free territor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is case went all the way to the Supreme Court, where Scott loses because he was not considered a citizen, thus could not sue in federal court.  (He was “property” and could be taken anywhere.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ion of 1860 and the Start of the Civil W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raham Lincoln was elected president in 1860 without any southern electoral vo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southern states quickly seceded from the Union, South Carolina leading the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thern troops fired upon Fort Sumter, starting the Civil W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orth fought to preserve the Union, while the South fought to preserve slave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sumter"/>
          <p:cNvPicPr/>
          <p:nvPr/>
        </p:nvPicPr>
        <p:blipFill>
          <a:blip r:embed="rId1"/>
          <a:stretch/>
        </p:blipFill>
        <p:spPr>
          <a:xfrm>
            <a:off x="4495680" y="1752480"/>
            <a:ext cx="4267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ivil War and the Emancipation Proclam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in the war, Lincoln began to think about ending slavery in the South to help end the w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eptember 22, 1862 he issued the Emancipation Proclamation which declared an end to slavery in the states in rebellion on January 1, 186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id it do?  Nothing.  It only freed slaves in the states that had sece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8" descr="LINC0508"/>
          <p:cNvPicPr/>
          <p:nvPr/>
        </p:nvPicPr>
        <p:blipFill>
          <a:blip r:embed="rId1"/>
          <a:stretch/>
        </p:blipFill>
        <p:spPr>
          <a:xfrm>
            <a:off x="5121360" y="1828800"/>
            <a:ext cx="3128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d of the Civil War and the 1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South lost, and the states were forced to accept the 13</a:t>
            </a:r>
            <a:r>
              <a:rPr b="0" lang="en-US" sz="23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Amendment to the Constitution before they could be readmitted into the Uni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23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Amendment-It abolished slavery in the United Stat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t was ratified in 1865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6" descr="The 13th Amendment of the U.S. Constitution"/>
          <p:cNvPicPr/>
          <p:nvPr/>
        </p:nvPicPr>
        <p:blipFill>
          <a:blip r:embed="rId1"/>
          <a:stretch/>
        </p:blipFill>
        <p:spPr>
          <a:xfrm>
            <a:off x="4267080" y="1828800"/>
            <a:ext cx="4572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pture and the Middle Pass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fter capture, Africans were packed tightly into slave ship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death rate of the “passengers” was 50%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6" descr="E017"/>
          <p:cNvPicPr/>
          <p:nvPr/>
        </p:nvPicPr>
        <p:blipFill>
          <a:blip r:embed="rId1"/>
          <a:stretch/>
        </p:blipFill>
        <p:spPr>
          <a:xfrm>
            <a:off x="4648320" y="1676520"/>
            <a:ext cx="3962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MMAG00373_0000[1]"/>
          <p:cNvPicPr/>
          <p:nvPr/>
        </p:nvPicPr>
        <p:blipFill>
          <a:blip r:embed="rId1"/>
          <a:stretch/>
        </p:blipFill>
        <p:spPr>
          <a:xfrm>
            <a:off x="2743200" y="1828800"/>
            <a:ext cx="3809880" cy="3664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43434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83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iddle Pass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map1c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stination, Auction, and Seaso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st Africans landed in Brazil with the least number landing in North America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s were auctioned off to the highest bidd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s were put through a process of “seasoning” to get them ready for wor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y learned an European language, were named an European name, and were shown labor requirement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eginnings of Slavery in the United Sta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Portuguese and Spanish had already brought Africans to South and Latin America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n 1619, the first Africans were brought to the colony Jamestown, Virginia by the Dutch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H009"/>
          <p:cNvPicPr/>
          <p:nvPr/>
        </p:nvPicPr>
        <p:blipFill>
          <a:blip r:embed="rId1"/>
          <a:stretch/>
        </p:blipFill>
        <p:spPr>
          <a:xfrm>
            <a:off x="4572000" y="1523880"/>
            <a:ext cx="4114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Not Enslave the Native Populatio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ative Americans were highly likely to catch European diseas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were familiar with the terrain and could escape easi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had political allies that could fight against the “owners.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asons for Using Enslaved African Lab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ximity-It only took 2-6 weeks to get to the colonies from the Caribbean at firs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perience-They had previous experience and knowledge working in sugar and rice produc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mmunity from diseases-Less likely to get sick due to prolonged contact over centuri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w escape possibilities-They did not know the land, had no allies, and were highly visible because of skin colo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thony Johns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was an African brought to the colonies in the 1620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obtained his freedom, and purchased 250 acres of land in Virginia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owned at least one slave and white indentured servant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s shows that blacks were not thought of strictly as slaves until the 1660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lavery in the Colon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w England colonies-no large plantation systems; slaves lived in cities and small far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esapeake Bay colonies-large tobacco plantations; center of the domestic slave trad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rolinas and Georgia-large rice and cotton plantat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00:11:35Z</dcterms:created>
  <dc:creator>gr-lab</dc:creator>
  <dc:description/>
  <dc:language>en-US</dc:language>
  <cp:lastModifiedBy>zimmermanj3</cp:lastModifiedBy>
  <dcterms:modified xsi:type="dcterms:W3CDTF">2008-09-29T16:45:35Z</dcterms:modified>
  <cp:revision>4</cp:revision>
  <dc:subject/>
  <dc:title>Slavery</dc:title>
</cp:coreProperties>
</file>