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55C-7748-4466-A555-B088FFCB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C9A-029C-42A3-9D46-2E5F5101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495-0845-4A03-8ACF-8CCDFD96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36F-663E-4CD6-AC0A-EFAC4E2D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3359-77C7-4DD4-8E14-72DE604A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4389-7DC6-4CC9-B52C-1E1E4E8E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03AA-2DC9-4D8E-B7C2-90B78ABC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64B8-2E57-47B6-91F9-5EB8837F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AD3-BF50-4AA5-B902-8559CC56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971C-B15C-476A-9E6F-EFD65C5B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D481-7E30-462E-9978-062D1210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838-6BC0-402E-B17B-84ECD5C7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756F-3CEA-4A5A-891A-74BF1BBD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30D2-0D89-46F5-B824-9ED001D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2572-F4AA-4945-AC43-A3A13067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1C37-3E0F-4940-B8A0-32ECA107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55D9-F9E4-4DA5-A9F6-31D40478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6AF-67C9-4E09-83A4-C7755782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24D-6775-4F18-9BD0-EFB62078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269-91D0-4353-ACEA-34AC2B0B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C09-3F82-489B-90AD-4D8563F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AD7-D2E9-47D8-9760-1A67E9D0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D84-569D-4B92-96E7-C1BCADC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C58-0378-41DE-BCD8-E8187D8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8116-8FBD-46F1-B00A-27AA6AE7B0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9476-C2D4-4660-A28F-EC5E827C4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Slavery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sh Zimmerm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C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ffects of the American Revolution and the Constit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adual abolition of slavery in the northern colon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d of the Atlantic Slave Trade in 180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trenchment of slavery in the South with the invention of the cotton gin in 1793 by Eli Whitne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NW0075"/>
          <p:cNvPicPr/>
          <p:nvPr/>
        </p:nvPicPr>
        <p:blipFill>
          <a:blip r:embed="rId1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of a Sla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had Sundays off and they went to churc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could not read or write, and it was illegal for them to lear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 Codes-They could not:  leave their home without a pass, carry a weapon, gather in groups,  own property, legally marry, defend themselves against a white person, or speak in cour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light-Slaves would runawa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uancy-Flight for a short amount of time and then the slave came bac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fusal to reproduce-Women refused to have childre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vert Action-Slaves would sometimes kill animals, destroy crops, start fires, steal stuff, break tools, poison foo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NW0107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nish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often brutally punished for misbehav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nishments included:  whipping, branding, being sold, gagged (silence), and other torturous methods were u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6480" y="3916080"/>
            <a:ext cx="4000320" cy="19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HW0051"/>
          <p:cNvPicPr/>
          <p:nvPr/>
        </p:nvPicPr>
        <p:blipFill>
          <a:blip r:embed="rId1"/>
          <a:stretch/>
        </p:blipFill>
        <p:spPr>
          <a:xfrm>
            <a:off x="4572000" y="228600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NW0030"/>
          <p:cNvPicPr/>
          <p:nvPr/>
        </p:nvPicPr>
        <p:blipFill>
          <a:blip r:embed="rId2"/>
          <a:stretch/>
        </p:blipFill>
        <p:spPr>
          <a:xfrm>
            <a:off x="6477120" y="304920"/>
            <a:ext cx="14652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ol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 major slave revolt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no Rebellion-failed revolt in South Carolina in 17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riel Prosser-led failed revolt in Virginia in 18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nmark Vessey-led failed revolt in South Carolina in 182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 Turner-killed 60 white people in Virginia in 183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romise of 18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lifornia comes in the Union (United States) as a fre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tah and New Mexico territories are created-no mention of slavery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utlaws slave trade in Washington,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gitive Slave Act-requires northerners to return escaped slaves to mast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red Scott Deci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red Scott was a slave who was taken to a free territory by his owner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sued for his freedom because he lived in the free territo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 case went all the way to the Supreme Court, where Scott loses because he was not considered a citizen, thus could not sue in federal court.  (He was “property” and could be taken anywhere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of 1860 and the Start of the Civil W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aham Lincoln was elected president in 1860 without any southern electoral vo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southern states quickly seceded from the Union, South Carolina leading the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thern troops fired upon Fort Sumter, starting the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orth fought to preserve the Union, while the South fought to preserve slav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sumter"/>
          <p:cNvPicPr/>
          <p:nvPr/>
        </p:nvPicPr>
        <p:blipFill>
          <a:blip r:embed="rId1"/>
          <a:stretch/>
        </p:blipFill>
        <p:spPr>
          <a:xfrm>
            <a:off x="4495680" y="1752480"/>
            <a:ext cx="4267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ivil War and the Emancipation Procla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in the war, Lincoln began to think about ending slavery in the South to help end the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eptember 22, 1862 he issued the Emancipation Proclamation which declared an end to slavery in the states in rebellion on January 1, 186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id it do?  Nothing.  It only freed slaves in the states that had sec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LINC0508"/>
          <p:cNvPicPr/>
          <p:nvPr/>
        </p:nvPicPr>
        <p:blipFill>
          <a:blip r:embed="rId1"/>
          <a:stretch/>
        </p:blipFill>
        <p:spPr>
          <a:xfrm>
            <a:off x="5121360" y="1828800"/>
            <a:ext cx="3128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 of the Civil War and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South lost, and the states were forced to accept the 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 to the Constitution before they could be readmitted into the Un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-It abolished slavery in the United Stat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was ratified in 186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The 13th Amendment of the U.S. Constitution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pture and 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capture, Africans were packed tightly into slave ship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ath rate of the “passengers” was 50%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E017"/>
          <p:cNvPicPr/>
          <p:nvPr/>
        </p:nvPicPr>
        <p:blipFill>
          <a:blip r:embed="rId1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MMAG00373_0000[1]"/>
          <p:cNvPicPr/>
          <p:nvPr/>
        </p:nvPicPr>
        <p:blipFill>
          <a:blip r:embed="rId1"/>
          <a:stretch/>
        </p:blipFill>
        <p:spPr>
          <a:xfrm>
            <a:off x="2743200" y="1828800"/>
            <a:ext cx="3809880" cy="366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map1c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tination, Auction, and Seas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Africans landed in Brazil with the least number landing in North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auctioned off to the highest bidd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put through a process of “seasoning” to get them ready for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learned an European language, were named an European name, and were shown labor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eginnings of Slavery in the United St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ortuguese and Spanish had already brought Africans to South and Latin Ameri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1619, the first Africans were brought to the colony Jamestown, Virginia by the Dutch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H009"/>
          <p:cNvPicPr/>
          <p:nvPr/>
        </p:nvPicPr>
        <p:blipFill>
          <a:blip r:embed="rId1"/>
          <a:stretch/>
        </p:blipFill>
        <p:spPr>
          <a:xfrm>
            <a:off x="4572000" y="15238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Not Enslave the Native Popul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tive Americans were highly likely to catch European disea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were familiar with the terrain and could escape easi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ad political allies that could fight against the “owners.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sons for Using Enslaved African Lab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ximity-It only took 2-6 weeks to get to the colonies from the Caribbean at fir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erience-They had previous experience and knowledge working in sugar and rice produ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munity from diseases-Less likely to get sick due to prolonged contact over centur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escape possibilities-They did not know the land, had no allies, and were highly visible because of skin col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thony Johns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an African brought to the colonies in the 162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btained his freedom, and purchased 250 acres of land in Virgini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wned at least one slave and white indentured serva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s shows that blacks were not thought of strictly as slaves until the 166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avery in the Colon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England colonies-no large plantation systems; slaves lived in cities and small fa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sapeake Bay colonies-large tobacco plantations; center of the domestic slave trad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olinas and Georgia-large rice and cotton plan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11:35Z</dcterms:created>
  <dc:creator>gr-lab</dc:creator>
  <dc:description/>
  <dc:language>en-US</dc:language>
  <cp:lastModifiedBy>zimmermanj3</cp:lastModifiedBy>
  <dcterms:modified xsi:type="dcterms:W3CDTF">2008-09-29T16:45:35Z</dcterms:modified>
  <cp:revision>4</cp:revision>
  <dc:subject/>
  <dc:title>Slavery</dc:title>
</cp:coreProperties>
</file>