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7B0-1A37-4195-A412-937C05E6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128-9F07-44B2-BFCC-8932D0E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D6B-84EC-4BB2-9DC2-F4400060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684-877A-45F4-95B5-57239164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1723-BAD5-4DDD-893B-FC15F80A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CA3A-3C95-4802-9AC8-53CC654C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E5D-E295-4B94-8547-83225E2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54F3-BBEA-447F-A5DE-D8847D3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01F-C797-4073-B6D6-8728802D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EC1D-3507-4BCB-BEA4-F05F2DF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F69-90AA-4061-83F8-7AC36B0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926-7703-4FE9-A29E-087F79EF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BDE1-3C86-4898-8A5E-FA64FB3A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7A2-DC72-4306-AB5B-83534AE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97FB-9B79-459F-9C20-033638C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F614-010D-4497-96BB-A8EEC2EA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8666-DD5D-4A4A-8EDF-CADF2A65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E12-537F-4923-B5B8-C5883CA6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382-B4F5-4088-B8EC-D865EE6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DF5-9777-4372-9F8A-2102D23A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0AD-096A-40C4-92B9-51F91C2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AC2-16C8-4866-8632-E8B480B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3EC-8FC1-423D-AC3E-520175B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9FE-BCEC-4585-B2E1-9E3A814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9C7-8441-4756-8F8D-7D2CE1E70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A235-83D3-4A81-9384-3A9B222945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sh Zimmer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C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ffects of the American Revolution and the Constit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NW0075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of a Sl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had Sundays off and they went to churc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could not read or write, and it was illegal for them to lear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Codes-They could not:  leave their home without a pass, carry a weapon, gather in groups,  own property, legally marry, defend themselves against a white person, or speak in cour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ight-Slaves would runawa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uancy-Flight for a short amount of time and then the slave came bac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usal to reproduce-Women refused to have childre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vert Action-Slaves would sometimes kill animals, destroy crops, start fires, steal stuff, break tools, poison f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NW0107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nishments included:  whipping, branding, being sold, gagged (silence), and other torturous methods we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480" y="3916080"/>
            <a:ext cx="400032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HW0051"/>
          <p:cNvPicPr/>
          <p:nvPr/>
        </p:nvPicPr>
        <p:blipFill>
          <a:blip r:embed="rId1"/>
          <a:stretch/>
        </p:blipFill>
        <p:spPr>
          <a:xfrm>
            <a:off x="4572000" y="22860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NW0030"/>
          <p:cNvPicPr/>
          <p:nvPr/>
        </p:nvPicPr>
        <p:blipFill>
          <a:blip r:embed="rId2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jor slave revolt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o Rebellion-failed revolt in South Carolina in 17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riel Prosser-led failed revolt in Virginia in 1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mark Vessey-led failed revolt in South Carolina in 182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 Turner-killed 60 white people in Virginia in 1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lifornia comes in the Union (United States) as a fre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ah and New Mexico territories are created-no mention of 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utlaws slave trade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gitive Slave Act-requires northerners to return escaped slaves to mas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red Scott Dec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case went all the way to the Supreme Court, where Scott loses because he was not considered a citizen, thus could not sue in federal court.  (He was “property” and could be taken anywhere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of 1860 and the Start of the Civil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sumter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ivil War and the Emancipation Procla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LINC0508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Civil War and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outh lost, and the states were forced to accept the 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-It abolished slavery in the United Sta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The 13th Amendment of the U.S. Constitution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ture and 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E017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MMAG00373_0000[1]"/>
          <p:cNvPicPr/>
          <p:nvPr/>
        </p:nvPicPr>
        <p:blipFill>
          <a:blip r:embed="rId1"/>
          <a:stretch/>
        </p:blipFill>
        <p:spPr>
          <a:xfrm>
            <a:off x="2743200" y="1828800"/>
            <a:ext cx="3809880" cy="366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map1c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tination, Auction, and Seas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Africans landed in Brazil with the least number landing in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put through a process of “seasoning” to get them ready for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learned an European language, were named an European name, and were shown labor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s of Slavery in the Unite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619, the first Africans were brought to the colony Jamestown, Virginia by the Dutch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009"/>
          <p:cNvPicPr/>
          <p:nvPr/>
        </p:nvPicPr>
        <p:blipFill>
          <a:blip r:embed="rId1"/>
          <a:stretch/>
        </p:blipFill>
        <p:spPr>
          <a:xfrm>
            <a:off x="457200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Not Enslave the Native Popul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tive Americans were highly likely to catch European disea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familiar with the terrain and could escape easi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ad political allies that could fight against the “owners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s for Using Enslaved African 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ximity-It only took 2-6 weeks to get to the colonies from the Caribbean at fir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rience-They had previous experience and knowledge working in sugar and rice p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unity from diseases-Less likely to get sick due to prolonged contact over centur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escape possibilities-They did not know the land, had no allies, and were highly visible because of skin col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hony John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an African brought to the colonies in the 162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btained his freedom, and purchased 250 acres of land in Virgini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wned at least one slave and white indentured serva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shows that blacks were not thought of strictly as slaves until the 166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very in the Colon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England colonies-no large plantation systems; slaves lived in cities and small fa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sapeake Bay colonies-large tobacco plantations; center of the domestic slave tra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olinas and Georgia-large rice and cotton plan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zimmermanj3</cp:lastModifiedBy>
  <dcterms:modified xsi:type="dcterms:W3CDTF">2008-09-29T16:45:35Z</dcterms:modified>
  <cp:revision>4</cp:revision>
  <dc:subject/>
  <dc:title>Slavery</dc:title>
</cp:coreProperties>
</file>