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D6C-BBA7-47DE-ABF1-D2349464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5E7-21CE-469C-8310-0263FE7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E13-4ED1-4893-B71A-284B8B0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453-2EED-42AD-AE28-7992321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5D0-EE94-4C53-85F6-43BFB9B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1E4-356F-4CB0-A1D2-85C72EF2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858-947A-4E7D-87BF-55538790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006-726B-4BF0-8557-05EF5AD2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4C0-161E-428A-B340-E2216B7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222-5ED5-47B3-A1B7-32CA1085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2C8-3213-4F47-86AC-C9C455B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7B2-BA47-4E54-87F6-EC72C775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2DD-617B-45B1-9532-CDBCC5B5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or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_politics-233x300.png"/>
          <p:cNvPicPr/>
          <p:nvPr/>
        </p:nvPicPr>
        <p:blipFill>
          <a:blip r:embed="rId1"/>
          <a:stretch/>
        </p:blipFill>
        <p:spPr>
          <a:xfrm>
            <a:off x="3505320" y="3505320"/>
            <a:ext cx="2219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Direct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held within a party to select a candidate for the gen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ates have primaries in which the people choose their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pen Primary- any voter can cast a ball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lose Primary- only party members can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Blanket Primary- ever voter receives the sam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onger used as of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losed Pri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“party raiding” one party casting votes for another parties weake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andidates more responsive to the party and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voters more thoughtful in casting a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s of Closed Pri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away from the secrecy of the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s independent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are nominated by getting signatures from registered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esday follow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day in November every even numbered year (date set by Con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se secret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electorl.gif"/>
          <p:cNvPicPr/>
          <p:nvPr/>
        </p:nvPicPr>
        <p:blipFill>
          <a:blip r:embed="rId1"/>
          <a:stretch/>
        </p:blipFill>
        <p:spPr>
          <a:xfrm>
            <a:off x="457200" y="533520"/>
            <a:ext cx="784548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9" descr="Cartogram-2008_Electoral_Vote.png"/>
          <p:cNvPicPr/>
          <p:nvPr/>
        </p:nvPicPr>
        <p:blipFill>
          <a:blip r:embed="rId1"/>
          <a:stretch/>
        </p:blipFill>
        <p:spPr>
          <a:xfrm>
            <a:off x="1371600" y="914400"/>
            <a:ext cx="631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tee voting- voter apply for absentee ballots and mail in their results by a certain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as created to help the elderly and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day anyone can apply for a absente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es allow voters to vote a few days ahead of the elec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a ballot via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ries of hackers, jammed lines, blocked access, fraud, viruses have kept online voting from becoming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bam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votes counted at the Democratic Caucus in Iow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ppens if a candidate receives less than 15% of the v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candidate wins the New Hampshire prim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happens on Super Tues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w does one get to run office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an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money1"/>
          <p:cNvPicPr/>
          <p:nvPr/>
        </p:nvPicPr>
        <p:blipFill>
          <a:blip r:embed="rId1"/>
          <a:stretch/>
        </p:blipFill>
        <p:spPr>
          <a:xfrm>
            <a:off x="2514600" y="2819520"/>
            <a:ext cx="4124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y &amp;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for public office takes lots of MONEY 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knows the true amount of how much is spent on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amp; Publ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mall contributor: as little as $5.00 may b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andidates (Ross Perot spent 65 mill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his own money in 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litical Action Committees (PACs)- special interest groups who have a stake in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Fundra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Campaign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awful for corporations or banks to make contributions in any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s, banks and labor unions can not donate money in Feder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Election Committee- administers the laws of election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or group can make a donation in another person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gifts over $100 are no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tributions from a foreig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200 must be identifi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over $5,000 is reported to the FEC no later than 48hours after it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erson can give more than $2,000 to any federal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5,000 to a political a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can give more than $25,000 to national par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nue Act of 19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le taxes one can contribute $3.00 to the Presidentia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goes to pay for national conventions and the campa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eps do you think a person needs to do in order to run for any public office position in the U.S. (including Presid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mina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ation- the naming of those who will seek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Ways to Nominate a Candi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nnou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elf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st form of n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wants to run for office just announces that they wi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in the form of a writ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auc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like minded people who select the candidate they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eared in 1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 in New England for local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he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into use after the caucus method collap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in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all major parties use the convention to nominate candidates for President and other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Conven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eet in a local caucus to pick candidates and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te or national convention those delegates chose who will be the parties nomi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25:51Z</dcterms:created>
  <dc:creator>lausd_user</dc:creator>
  <dc:description/>
  <dc:language>en-US</dc:language>
  <cp:lastModifiedBy>Josh Zimmerman</cp:lastModifiedBy>
  <dcterms:modified xsi:type="dcterms:W3CDTF">2015-02-11T13:46:14Z</dcterms:modified>
  <cp:revision>14</cp:revision>
  <dc:subject/>
  <dc:title>The Electoral Process</dc:title>
</cp:coreProperties>
</file>