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492-521B-4CAC-9D70-7A91D47D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3A9-F6F7-4703-8874-011E3B5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6C9-FB45-47BE-8DD4-0AC10813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6E3-7D98-4FC4-A801-09F0FBF3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CCA-85C9-4AA2-9BE9-FA4BFBF1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952-4804-4D83-9BA6-C07EBBE0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893-3CF8-4482-845C-45C835E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FB1-3BD8-426C-B4C4-BC48B1C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627-A97C-45AB-95B6-DD8FF04B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097-B5BE-419C-A988-32D0DC8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156-BE9C-4463-AEE8-187E654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546-BAD6-4DE3-9840-825A4F4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D92-5705-4F4C-BEDC-65577992C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cc"/>
                </a:solidFill>
                <a:latin typeface="Old English Text MT"/>
              </a:rPr>
              <a:t>The Reformation Beg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artin_Luther2"/>
          <p:cNvPicPr/>
          <p:nvPr/>
        </p:nvPicPr>
        <p:blipFill>
          <a:blip r:embed="rId2"/>
          <a:stretch/>
        </p:blipFill>
        <p:spPr>
          <a:xfrm>
            <a:off x="2971800" y="1295280"/>
            <a:ext cx="3549600" cy="5181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42900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stellar"/>
              </a:rPr>
              <a:t>Martin Lu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05740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Mr. Z’s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4920" y="1371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students know your last name, but still insist on calling you by just M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2666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ven though I live on my own, not matter how old I get my mother thinks she can tell me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608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students can walk so fast to lunch, but so slow on their way back t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4920" y="48006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chool day should start an hour later than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Martin Luthe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pperplate Gothic Bold"/>
              </a:rPr>
              <a:t>(The Early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3733920"/>
            <a:ext cx="8229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ed School to become a Law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1981080"/>
            <a:ext cx="83059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as Mart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u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1483 later he called himself Lu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905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he Setting: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Stotterheim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, July 2</a:t>
            </a:r>
            <a:r>
              <a:rPr b="1" lang="en-US" sz="3200" spc="-1" strike="noStrike" baseline="30000">
                <a:solidFill>
                  <a:srgbClr val="660033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15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85800" y="29113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Happened: Martin is walking to visit h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 lightning strikes near him and the change in air pressure knocks him on his Bu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85800" y="5181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t was at this time he vowed to becom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43000" y="45720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hiller"/>
              </a:rPr>
              <a:t>The Lightning Leg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8839080" y="65530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6553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914400" y="1905120"/>
            <a:ext cx="571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14400" y="2666880"/>
            <a:ext cx="6705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time copy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3352680"/>
            <a:ext cx="670572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t more time read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its original languag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Hebr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28600" y="76320"/>
            <a:ext cx="8915400" cy="1297800"/>
            <a:chOff x="228600" y="76320"/>
            <a:chExt cx="8915400" cy="1297800"/>
          </a:xfrm>
        </p:grpSpPr>
        <p:sp>
          <p:nvSpPr>
            <p:cNvPr id="57" name="Text Box 4"/>
            <p:cNvSpPr/>
            <p:nvPr/>
          </p:nvSpPr>
          <p:spPr>
            <a:xfrm>
              <a:off x="228600" y="7632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stellar"/>
                </a:rPr>
                <a:t>Life as  a Monk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300400" y="914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stellar"/>
                </a:rPr>
                <a:t>1505-15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" name="Object 11"/>
          <p:cNvGraphicFramePr/>
          <p:nvPr/>
        </p:nvGraphicFramePr>
        <p:xfrm>
          <a:off x="0" y="708660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0866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2"/>
          <p:cNvGraphicFramePr/>
          <p:nvPr/>
        </p:nvGraphicFramePr>
        <p:xfrm>
          <a:off x="609480" y="7162920"/>
          <a:ext cx="30492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71629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219320" y="7162920"/>
          <a:ext cx="30456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71629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4"/>
          <p:cNvGraphicFramePr/>
          <p:nvPr/>
        </p:nvGraphicFramePr>
        <p:xfrm>
          <a:off x="1752480" y="7238880"/>
          <a:ext cx="30492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7238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5"/>
          <p:cNvSpPr/>
          <p:nvPr/>
        </p:nvSpPr>
        <p:spPr>
          <a:xfrm>
            <a:off x="914400" y="4572000"/>
            <a:ext cx="746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s his Doctorate in </a:t>
            </a:r>
            <a:r>
              <a:rPr b="1" lang="en-US" sz="3200" spc="-1" strike="noStrike">
                <a:solidFill>
                  <a:srgbClr val="fe0202"/>
                </a:solidFill>
                <a:latin typeface="Arial"/>
              </a:rPr>
              <a:t>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990720" y="5410080"/>
            <a:ext cx="2057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log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048120" y="5410080"/>
            <a:ext cx="5181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tudy of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7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523880" y="380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de Latin"/>
              </a:rPr>
              <a:t>The Teac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43000" y="1676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fter he left the Monastery, Martin Luther becomes a professor at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Wittenberg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143000" y="3429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Taught Th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128600" y="427824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He also served as the town’s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 pri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143000" y="5029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is is also where he began to question the </a:t>
            </a:r>
            <a:r>
              <a:rPr b="0" lang="en-US" sz="3200" spc="-1" strike="noStrike">
                <a:solidFill>
                  <a:srgbClr val="00b050"/>
                </a:solidFill>
                <a:latin typeface="Bernard MT Condensed"/>
              </a:rPr>
              <a:t>Catholic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28600" y="0"/>
            <a:ext cx="86868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skerville Old Face"/>
              </a:rPr>
              <a:t>Martin Luther’s Anger Gr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33520" y="1219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uther   Notices  fewer  and  fewer  people  are showing  up  for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76520" y="2819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your sins to a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 reason  for  this :  the  catholic  church  was  offering  </a:t>
            </a:r>
            <a:r>
              <a:rPr b="0" lang="en-US" sz="3200" spc="-1" strike="noStrike">
                <a:solidFill>
                  <a:srgbClr val="c00000"/>
                </a:solidFill>
                <a:latin typeface="Showcard Gothic"/>
              </a:rPr>
              <a:t>indul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752480" y="55627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money to the church to get rid of all your s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1981080" y="6858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0202"/>
                </a:solidFill>
                <a:latin typeface="comic"/>
              </a:rPr>
              <a:t>THE 95 THE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286000" y="13809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tober 31, 15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447920" y="20574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her writes a document listing 95 complaints about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u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1447920" y="35812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nails the list to the Doors of his church (back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3" descr=""/>
          <p:cNvPicPr/>
          <p:nvPr/>
        </p:nvPicPr>
        <p:blipFill>
          <a:blip r:embed="rId2"/>
          <a:stretch/>
        </p:blipFill>
        <p:spPr>
          <a:xfrm>
            <a:off x="2414520" y="73080"/>
            <a:ext cx="1030320" cy="6729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686480" y="467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For Your Ey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219320" y="3445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The Task at H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457200" y="1828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reate a Theses of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57200" y="2743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our Theses will contain at least 15 compl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5720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Here are some possible categories that you can use, but are not limi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chool, Home, Teams, Hometown,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02"/>
                </a:solidFill>
                <a:latin typeface="Arial"/>
              </a:rPr>
              <a:t>Do not use anyone’s name specif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7:36:35Z</dcterms:created>
  <dc:creator>zimmermanj3</dc:creator>
  <dc:description/>
  <dc:language>en-US</dc:language>
  <cp:lastModifiedBy>zimmermanj3</cp:lastModifiedBy>
  <dcterms:modified xsi:type="dcterms:W3CDTF">2007-10-17T05:17:34Z</dcterms:modified>
  <cp:revision>33</cp:revision>
  <dc:subject/>
  <dc:title>The Reformation Begins</dc:title>
</cp:coreProperties>
</file>