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A15-85C0-476B-93C3-63FDF28F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D38-B73B-4068-AD47-95F22A55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E03-AA61-4FD4-B58B-B8788BA6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666-968A-44FE-B168-AB3A1C7B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1AD-D5D3-49D4-9483-B249DE43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7A3-40BB-4329-A058-48A27CD8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22B-A249-4D1E-A27A-89F7760A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C70-672D-4A85-B2F8-A4EDEE9B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185-9D07-4920-872F-755699DA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615-FA35-49D9-8E58-D2BE485F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287-0AB2-4F71-B02E-B07362D8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9D9-B36E-40CE-86D3-F5792FB8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AD4B-1AA1-4A8B-A18C-132ED658D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or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s_politics-233x300.png"/>
          <p:cNvPicPr/>
          <p:nvPr/>
        </p:nvPicPr>
        <p:blipFill>
          <a:blip r:embed="rId1"/>
          <a:stretch/>
        </p:blipFill>
        <p:spPr>
          <a:xfrm>
            <a:off x="3505320" y="3505320"/>
            <a:ext cx="2219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The Direct Pri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held within a party to select a candidate for the general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ates have primaries in which the people choose thei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pen Primary- any voter can cast a ball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Close Primary- only party members can v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Blanket Primary- ever voter receives the sam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onger used as of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Closed Pri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“party raiding” one party casting votes for another parties weaker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andidates more responsive to the party and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voters more thoughtful in casting a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cs of Closed Prim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away from the secrecy of the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des independent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are nominated by getting signatures from registered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esday following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day in November every even numbered year (date set by Con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use secret bal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electorl.gif"/>
          <p:cNvPicPr/>
          <p:nvPr/>
        </p:nvPicPr>
        <p:blipFill>
          <a:blip r:embed="rId1"/>
          <a:stretch/>
        </p:blipFill>
        <p:spPr>
          <a:xfrm>
            <a:off x="457200" y="533520"/>
            <a:ext cx="784548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9" descr="Cartogram-2008_Electoral_Vote.png"/>
          <p:cNvPicPr/>
          <p:nvPr/>
        </p:nvPicPr>
        <p:blipFill>
          <a:blip r:embed="rId1"/>
          <a:stretch/>
        </p:blipFill>
        <p:spPr>
          <a:xfrm>
            <a:off x="1371600" y="914400"/>
            <a:ext cx="63104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entee voting- voter apply for absentee ballots and mail in their results by a certain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Was created to help the elderly and 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oday anyone can apply for a absente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es allow voters to vote a few days ahead of the elec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 a ballot via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ries of hackers, jammed lines, blocked access, fraud, viruses have kept online voting from becoming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ack Obam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votes counted at the Democratic Caucus in Iow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ppens if a candidate receives less than 15% of the v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ich candidate wins the New Hampshire prim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at happens on Super Tues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w does one get to run office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7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and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money1"/>
          <p:cNvPicPr/>
          <p:nvPr/>
        </p:nvPicPr>
        <p:blipFill>
          <a:blip r:embed="rId1"/>
          <a:stretch/>
        </p:blipFill>
        <p:spPr>
          <a:xfrm>
            <a:off x="2514600" y="2819520"/>
            <a:ext cx="4124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 &amp; E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for public office takes lots of MONEY $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knows the true amount of how much is spent on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&amp; Public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mall contributor: as little as $5.00 may b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a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wealthy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andidates (Ross Perot spent 65 mill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his own money in 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Political Action Committees (PACs)- special interest groups who have a stake in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Fundra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Campaign 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awful for corporations or banks to make contributions in any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s, banks and labor unions can not donate money in Feder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Election Committee- administers the laws of election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erson or group can make a donation in another persons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gifts over $100 are not a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ntributions from a foreig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$200 must be identified and 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$5,000 is reported to the FEC no later than 48hours after it i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erson can give more than $2,000 to any federal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can give more than 5,000 to a political ac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can give more than $25,000 to national part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nue Act of 19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le taxes one can contribute $3.00 to the Presidential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goes to pay for national conventions and the campaig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eps do you think a person needs to do in order to run for any public office position in the U.S. (including Presid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mina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ion- the naming of those who will seek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Ways to Nominate a Candi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nnou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elf Annou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st form of n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coloni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wants to run for office just announces that they wi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in the form of a writ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auc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like minded people who select the candidate they wil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eared in 1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used today in New England for loc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The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into use after the caucus method collap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all major parties use the convention to nominate candidates for President and other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e Convention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meet in a local caucus to pick candidates and del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tate or national convention those delegates chose who will be the parties nomi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0:25:51Z</dcterms:created>
  <dc:creator>lausd_user</dc:creator>
  <dc:description/>
  <dc:language>en-US</dc:language>
  <cp:lastModifiedBy>Josh Zimmerman</cp:lastModifiedBy>
  <dcterms:modified xsi:type="dcterms:W3CDTF">2015-02-11T13:46:14Z</dcterms:modified>
  <cp:revision>14</cp:revision>
  <dc:subject/>
  <dc:title>The Electoral Process</dc:title>
</cp:coreProperties>
</file>