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26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35440-3FCB-485D-8C04-EAD65E796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4F73C-59A7-4FF0-81E5-051BA8ECD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F923C-84C4-44DC-949D-5FD22C331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81CBC-0878-4DC2-B9C3-FC3157D70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1F4A7-108A-405E-98BE-A128B4904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FBDC9-C483-4116-85FF-CA94C9B6E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01152-725C-4A68-B512-12DF0AD29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A29CE-1F22-4F5E-95B0-D683477D2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47FBF-82BB-4EC7-9AE4-74E20A639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2056B-A61D-4A43-A944-D1E97EB20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6DAF8-FDD2-44C2-B2E2-56D2539AD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AAB71-D9ED-4336-A8A7-D9D3FBE39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74B1A-40A2-4FD0-9745-D641A43F46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276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Electoral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pter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us_politics-233x300.png"/>
          <p:cNvPicPr/>
          <p:nvPr/>
        </p:nvPicPr>
        <p:blipFill>
          <a:blip r:embed="rId1"/>
          <a:stretch/>
        </p:blipFill>
        <p:spPr>
          <a:xfrm>
            <a:off x="3505320" y="3505320"/>
            <a:ext cx="221904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. The Direct Pri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ction held within a party to select a candidate for the general el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used in 190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states have primaries in which the people choose their candid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) Open Primary- any voter can cast a ballo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) Close Primary- only party members can vo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) Blanket Primary- ever voter receives the same bal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no longer used as of 20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asons for Closed Pri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vents “party raiding” one party casting votes for another parties weaker candid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s candidates more responsive to the party and plat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s voters more thoughtful in casting a vo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itics of Closed Prim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kes away from the secrecy of the ball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cludes independent vo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. Pet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didates are nominated by getting signatures from registered vo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uesday following th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onday in November every even numbered year (date set by Con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st use secret ballo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Content Placeholder 3" descr="electorl.gif"/>
          <p:cNvPicPr/>
          <p:nvPr/>
        </p:nvPicPr>
        <p:blipFill>
          <a:blip r:embed="rId1"/>
          <a:stretch/>
        </p:blipFill>
        <p:spPr>
          <a:xfrm>
            <a:off x="457200" y="533520"/>
            <a:ext cx="7845480" cy="53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Content Placeholder 9" descr="Cartogram-2008_Electoral_Vote.png"/>
          <p:cNvPicPr/>
          <p:nvPr/>
        </p:nvPicPr>
        <p:blipFill>
          <a:blip r:embed="rId1"/>
          <a:stretch/>
        </p:blipFill>
        <p:spPr>
          <a:xfrm>
            <a:off x="1371600" y="914400"/>
            <a:ext cx="6310440" cy="53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arly Vo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sentee voting- voter apply for absentee ballots and mail in their results by a certain dead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 Was created to help the elderly and 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 Today anyone can apply for a absentee bal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states allow voters to vote a few days ahead of the election d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-Vo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ting a ballot via the inter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used in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ries of hackers, jammed lines, blocked access, fraud, viruses have kept online voting from becoming popul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rrack Obama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deo Question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How are votes counted at the Democratic Caucus in Iow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What happens if a candidate receives less than 15% of the vot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Which candidate wins the New Hampshire prima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What happens on Super Tuesda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How does one get to run office???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pter 7 Re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371600" y="2133720"/>
            <a:ext cx="640080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ey and El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7" descr="money1"/>
          <p:cNvPicPr/>
          <p:nvPr/>
        </p:nvPicPr>
        <p:blipFill>
          <a:blip r:embed="rId1"/>
          <a:stretch/>
        </p:blipFill>
        <p:spPr>
          <a:xfrm>
            <a:off x="2514600" y="2819520"/>
            <a:ext cx="4124160" cy="37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ney &amp; Ele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nning for public office takes lots of MONEY $$$$$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one knows the true amount of how much is spent on el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urces of Fun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vate &amp; Public sourc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) small contributor: as little as $5.00 may be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ated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) wealthy individu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) Candidates (Ross Perot spent 65 million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his own money in 199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) Political Action Committees (PACs)- special interest groups who have a stake in el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) Fundrais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ulating Campaign Fin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lawful for corporations or banks to make contributions in any el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orations, banks and labor unions can not donate money in Federal El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deral Election Committee- administers the laws of election fin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mits on Contribu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person or group can make a donation in another persons n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h gifts over $100 are not allow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contributions from a foreign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ything over $200 must be identified and d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ything over $5,000 is reported to the FEC no later than 48hours after it is receiv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person can give more than $2,000 to any federal candid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one can give more than 5,000 to a political action committ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one can give more than $25,000 to national party committ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venue Act of 197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you file taxes one can contribute $3.00 to the Presidential campa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ey goes to pay for national conventions and the campaign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steps do you think a person needs to do in order to run for any public office position in the U.S. (including President)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ominating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mination- the naming of those who will seek off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5 Ways to Nominate a Candida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f-announc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uc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ven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rect pri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t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. Self Announc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ldest form of nomi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used in colonial ti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erson who wants to run for office just announces that they will r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also be in the form of a write 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. Caucu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group of like minded people who select the candidate they will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ppeared in 17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ill used today in New England for local el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. The Conven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me into use after the caucus method collap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used in 183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day all major parties use the convention to nominate candidates for President and other off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the Convention Wor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bers meet in a local caucus to pick candidates and deleg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the state or national convention those delegates chose who will be the parties nomine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8T00:25:51Z</dcterms:created>
  <dc:creator>lausd_user</dc:creator>
  <dc:description/>
  <dc:language>en-US</dc:language>
  <cp:lastModifiedBy>Josh Zimmerman</cp:lastModifiedBy>
  <dcterms:modified xsi:type="dcterms:W3CDTF">2015-02-11T13:46:14Z</dcterms:modified>
  <cp:revision>14</cp:revision>
  <dc:subject/>
  <dc:title>The Electoral Process</dc:title>
</cp:coreProperties>
</file>