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C141-279D-4507-B347-55E843D3F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20D4-F25F-4F67-BC6A-4BD00C24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0C58-BA03-445F-8C29-9E2F36C18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0EB8-84E2-4940-B3F4-C16D525AA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5602-2DB2-4545-BA3C-DC4ED2FF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CB93-A934-423C-9289-6FE585A3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B594-A5CC-4C43-98FE-BCBD0E8D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4118-7EFE-4B86-9B57-994B49DB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183C-DBFB-4C38-AB7A-6A6282D6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D15A-1E16-45D2-90CA-ECE7C5FE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534C-1DD2-4326-9317-BF37B7C6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0C3B-9569-471B-8FB9-C9D1E238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4035-754D-4062-9F37-F24231E7A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ffcc"/>
                </a:solidFill>
                <a:latin typeface="Old English Text MT"/>
              </a:rPr>
              <a:t>The Reformation Begi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Martin_Luther2"/>
          <p:cNvPicPr/>
          <p:nvPr/>
        </p:nvPicPr>
        <p:blipFill>
          <a:blip r:embed="rId2"/>
          <a:stretch/>
        </p:blipFill>
        <p:spPr>
          <a:xfrm>
            <a:off x="2971800" y="1295280"/>
            <a:ext cx="3549600" cy="51818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3429000" y="480060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stellar"/>
              </a:rPr>
              <a:t>Martin Lu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3"/>
          <p:cNvSpPr/>
          <p:nvPr/>
        </p:nvSpPr>
        <p:spPr>
          <a:xfrm>
            <a:off x="2057400" y="304920"/>
            <a:ext cx="495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Papyrus"/>
              </a:rPr>
              <a:t>Mr. Z’s The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304920" y="13716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hen students know your last name, but still insist on calling you by just M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304920" y="26668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Even though I live on my own, not matter how old I get my mother thinks she can tell me what to 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316080" y="36576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Why students can walk so fast to lunch, but so slow on their way back to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304920" y="480060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The school day should start an hour later than it do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pperplate Gothic Bold"/>
              </a:rPr>
              <a:t>Martin Luther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pperplate Gothic Bold"/>
              </a:rPr>
              <a:t>(The Early Year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457200" y="3733920"/>
            <a:ext cx="82296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ended School to become a Law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457200" y="1981080"/>
            <a:ext cx="830592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rn as Marti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ud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in 1483 later he called himself Lu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7"/>
          <p:cNvSpPr/>
          <p:nvPr/>
        </p:nvSpPr>
        <p:spPr>
          <a:xfrm>
            <a:off x="685800" y="19051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The Setting: </a:t>
            </a:r>
            <a:r>
              <a:rPr b="1" lang="en-US" sz="3200" spc="-1" strike="noStrike">
                <a:solidFill>
                  <a:srgbClr val="fe0202"/>
                </a:solidFill>
                <a:latin typeface="Arial"/>
              </a:rPr>
              <a:t>Stotterheim</a:t>
            </a: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, July 2</a:t>
            </a:r>
            <a:r>
              <a:rPr b="1" lang="en-US" sz="3200" spc="-1" strike="noStrike" baseline="30000">
                <a:solidFill>
                  <a:srgbClr val="660033"/>
                </a:solidFill>
                <a:latin typeface="Arial"/>
              </a:rPr>
              <a:t>nd</a:t>
            </a: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 15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685800" y="2911320"/>
            <a:ext cx="73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What Happened: Martin is walking to visit h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and lightning strikes near him and the change in air pressure knocks him on his Bu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685800" y="51814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It was at this time he vowed to become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1143000" y="457200"/>
            <a:ext cx="6781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Chiller"/>
              </a:rPr>
              <a:t>The Lightning Legen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11"/>
          <p:cNvGraphicFramePr/>
          <p:nvPr/>
        </p:nvGraphicFramePr>
        <p:xfrm>
          <a:off x="8839080" y="6553080"/>
          <a:ext cx="30492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39080" y="65530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43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4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6"/>
          <p:cNvSpPr/>
          <p:nvPr/>
        </p:nvSpPr>
        <p:spPr>
          <a:xfrm>
            <a:off x="914400" y="1905120"/>
            <a:ext cx="57150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nt time Reading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914400" y="2666880"/>
            <a:ext cx="67057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nt time copying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914400" y="3352680"/>
            <a:ext cx="670572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nt more time reading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ib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its original languag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Hebre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10"/>
          <p:cNvGrpSpPr/>
          <p:nvPr/>
        </p:nvGrpSpPr>
        <p:grpSpPr>
          <a:xfrm>
            <a:off x="228600" y="76320"/>
            <a:ext cx="8915400" cy="1297800"/>
            <a:chOff x="228600" y="76320"/>
            <a:chExt cx="8915400" cy="1297800"/>
          </a:xfrm>
        </p:grpSpPr>
        <p:sp>
          <p:nvSpPr>
            <p:cNvPr id="57" name="Text Box 4"/>
            <p:cNvSpPr/>
            <p:nvPr/>
          </p:nvSpPr>
          <p:spPr>
            <a:xfrm>
              <a:off x="228600" y="76320"/>
              <a:ext cx="8915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astellar"/>
                </a:rPr>
                <a:t>Life as  a Monk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9"/>
            <p:cNvSpPr/>
            <p:nvPr/>
          </p:nvSpPr>
          <p:spPr>
            <a:xfrm>
              <a:off x="2300400" y="914400"/>
              <a:ext cx="40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astellar"/>
                </a:rPr>
                <a:t>1505-15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9" name="Object 11"/>
          <p:cNvGraphicFramePr/>
          <p:nvPr/>
        </p:nvGraphicFramePr>
        <p:xfrm>
          <a:off x="0" y="7086600"/>
          <a:ext cx="30492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708660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12"/>
          <p:cNvGraphicFramePr/>
          <p:nvPr/>
        </p:nvGraphicFramePr>
        <p:xfrm>
          <a:off x="609480" y="7162920"/>
          <a:ext cx="304920" cy="30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9480" y="7162920"/>
                    <a:ext cx="3049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13"/>
          <p:cNvGraphicFramePr/>
          <p:nvPr/>
        </p:nvGraphicFramePr>
        <p:xfrm>
          <a:off x="1219320" y="7162920"/>
          <a:ext cx="304560" cy="304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4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19320" y="7162920"/>
                    <a:ext cx="30456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14"/>
          <p:cNvGraphicFramePr/>
          <p:nvPr/>
        </p:nvGraphicFramePr>
        <p:xfrm>
          <a:off x="1752480" y="7238880"/>
          <a:ext cx="304920" cy="304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6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752480" y="72388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15"/>
          <p:cNvSpPr/>
          <p:nvPr/>
        </p:nvSpPr>
        <p:spPr>
          <a:xfrm>
            <a:off x="914400" y="4572000"/>
            <a:ext cx="74674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ceives his Doctorate in </a:t>
            </a:r>
            <a:r>
              <a:rPr b="1" lang="en-US" sz="3200" spc="-1" strike="noStrike">
                <a:solidFill>
                  <a:srgbClr val="fe0202"/>
                </a:solidFill>
                <a:latin typeface="Arial"/>
              </a:rPr>
              <a:t>The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4"/>
          <p:cNvSpPr/>
          <p:nvPr/>
        </p:nvSpPr>
        <p:spPr>
          <a:xfrm>
            <a:off x="990720" y="5410080"/>
            <a:ext cx="20574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ology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5"/>
          <p:cNvSpPr/>
          <p:nvPr/>
        </p:nvSpPr>
        <p:spPr>
          <a:xfrm>
            <a:off x="3048120" y="5410080"/>
            <a:ext cx="51814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study of reli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93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4" nodeType="with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95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6" nodeType="with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97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8" nodeType="with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99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3"/>
          <p:cNvSpPr/>
          <p:nvPr/>
        </p:nvSpPr>
        <p:spPr>
          <a:xfrm>
            <a:off x="1523880" y="38088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Wide Latin"/>
              </a:rPr>
              <a:t>The Teache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1143000" y="1676520"/>
            <a:ext cx="716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After he left the Monastery, Martin Luther becomes a professor at </a:t>
            </a:r>
            <a:r>
              <a:rPr b="0" lang="en-US" sz="3200" spc="-1" strike="noStrike">
                <a:solidFill>
                  <a:srgbClr val="00b050"/>
                </a:solidFill>
                <a:latin typeface="Bernard MT Condensed"/>
              </a:rPr>
              <a:t>Wittenberg Univers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1143000" y="34290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He Taught The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1128600" y="427824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He also served as the town’s</a:t>
            </a:r>
            <a:r>
              <a:rPr b="0" lang="en-US" sz="3200" spc="-1" strike="noStrike">
                <a:solidFill>
                  <a:srgbClr val="00b050"/>
                </a:solidFill>
                <a:latin typeface="Bernard MT Condensed"/>
              </a:rPr>
              <a:t> pri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1143000" y="5029200"/>
            <a:ext cx="624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This is also where he began to question the </a:t>
            </a:r>
            <a:r>
              <a:rPr b="0" lang="en-US" sz="3200" spc="-1" strike="noStrike">
                <a:solidFill>
                  <a:srgbClr val="00b050"/>
                </a:solidFill>
                <a:latin typeface="Bernard MT Condensed"/>
              </a:rPr>
              <a:t>Catholic</a:t>
            </a: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3"/>
          <p:cNvSpPr/>
          <p:nvPr/>
        </p:nvSpPr>
        <p:spPr>
          <a:xfrm>
            <a:off x="228600" y="0"/>
            <a:ext cx="8686800" cy="173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Baskerville Old Face"/>
              </a:rPr>
              <a:t>Martin Luther’s Anger Grow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533520" y="12193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Luther   Notices  fewer  and  fewer  people  are showing  up  for  </a:t>
            </a:r>
            <a:r>
              <a:rPr b="0" lang="en-US" sz="3200" spc="-1" strike="noStrike">
                <a:solidFill>
                  <a:srgbClr val="c00000"/>
                </a:solidFill>
                <a:latin typeface="Showcard Gothic"/>
              </a:rPr>
              <a:t>conf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1676520" y="281952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ing your sins to a pri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685800" y="388620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The  reason  for  this :  the  catholic  church  was  offering  </a:t>
            </a:r>
            <a:r>
              <a:rPr b="0" lang="en-US" sz="3200" spc="-1" strike="noStrike">
                <a:solidFill>
                  <a:srgbClr val="c00000"/>
                </a:solidFill>
                <a:latin typeface="Showcard Gothic"/>
              </a:rPr>
              <a:t>indulg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1752480" y="556272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ing money to the church to get rid of all your s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3"/>
          <p:cNvSpPr/>
          <p:nvPr/>
        </p:nvSpPr>
        <p:spPr>
          <a:xfrm>
            <a:off x="1981080" y="685800"/>
            <a:ext cx="518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e0202"/>
                </a:solidFill>
                <a:latin typeface="comic"/>
              </a:rPr>
              <a:t>THE 95 THE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2286000" y="138096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ctober 31, 15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1447920" y="205740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ther writes a document listing 95 complaints about the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Chur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1447920" y="3581280"/>
            <a:ext cx="647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nails the list to the Doors of his church (backgrou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extBox 3" descr=""/>
          <p:cNvPicPr/>
          <p:nvPr/>
        </p:nvPicPr>
        <p:blipFill>
          <a:blip r:embed="rId2"/>
          <a:stretch/>
        </p:blipFill>
        <p:spPr>
          <a:xfrm>
            <a:off x="2414520" y="73080"/>
            <a:ext cx="1030320" cy="6729480"/>
          </a:xfrm>
          <a:prstGeom prst="rect">
            <a:avLst/>
          </a:prstGeom>
          <a:ln w="0">
            <a:noFill/>
          </a:ln>
        </p:spPr>
      </p:pic>
      <p:sp>
        <p:nvSpPr>
          <p:cNvPr id="85" name="TextBox 5"/>
          <p:cNvSpPr/>
          <p:nvPr/>
        </p:nvSpPr>
        <p:spPr>
          <a:xfrm>
            <a:off x="4686480" y="467352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"/>
              </a:rPr>
              <a:t>For Your Eyes On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3"/>
          <p:cNvSpPr/>
          <p:nvPr/>
        </p:nvSpPr>
        <p:spPr>
          <a:xfrm>
            <a:off x="1219320" y="344520"/>
            <a:ext cx="693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70c0"/>
                </a:solidFill>
                <a:latin typeface="Arial"/>
              </a:rPr>
              <a:t>The Task at Ha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457200" y="18288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reate a Theses of Your Ow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457200" y="274320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Your Theses will contain at least 15 compl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457200" y="342900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Here are some possible categories that you can use, but are not limit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chool, Home, Teams, Hometown, Cou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1143000" y="52578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0202"/>
                </a:solidFill>
                <a:latin typeface="Arial"/>
              </a:rPr>
              <a:t>Do not use anyone’s name specif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7:36:35Z</dcterms:created>
  <dc:creator>zimmermanj3</dc:creator>
  <dc:description/>
  <dc:language>en-US</dc:language>
  <cp:lastModifiedBy>zimmermanj3</cp:lastModifiedBy>
  <dcterms:modified xsi:type="dcterms:W3CDTF">2007-10-17T05:17:34Z</dcterms:modified>
  <cp:revision>33</cp:revision>
  <dc:subject/>
  <dc:title>The Reformation Begins</dc:title>
</cp:coreProperties>
</file>