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FE1-F749-468B-B789-1818425B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CB0-183D-4407-AD82-144FAA80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D03-93E8-4238-B27A-C22E0A8A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D33-74B2-4AFF-9079-218F24E4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D55-EF68-4BBF-84FE-777EF42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976-F4AE-4CFC-B039-31611A1D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0F9-E554-4914-8889-3BB44D14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2D8-56E9-4940-9F34-67ACA3EA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DCB-1CE9-4F25-A3CE-F5E6F300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293-6599-4169-86D8-BE30176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E04-600E-4A4F-8F03-749104E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A30-2A44-46D3-94F7-1E1BBB6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E90F-BDDD-4873-8F74-46066E81A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cc"/>
                </a:solidFill>
                <a:latin typeface="Old English Text MT"/>
              </a:rPr>
              <a:t>The Reformation Beg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artin_Luther2"/>
          <p:cNvPicPr/>
          <p:nvPr/>
        </p:nvPicPr>
        <p:blipFill>
          <a:blip r:embed="rId2"/>
          <a:stretch/>
        </p:blipFill>
        <p:spPr>
          <a:xfrm>
            <a:off x="2971800" y="1295280"/>
            <a:ext cx="3549600" cy="5181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42900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stellar"/>
              </a:rPr>
              <a:t>Martin Lu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05740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r. Z’s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4920" y="1371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students know your last name, but still insist on calling you by just M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ven though I live on my own, not matter how old I get my mother thinks she can tell me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608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students can walk so fast to lunch, but so slow on their way back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4920" y="4800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chool day should start an hour later than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Martin Luth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(The Early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d School to become a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1981080"/>
            <a:ext cx="83059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s Mart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1483 later he called himself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905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he Setting: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Stotterheim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 July 2</a:t>
            </a:r>
            <a:r>
              <a:rPr b="1" lang="en-US" sz="3200" spc="-1" strike="noStrike" baseline="30000">
                <a:solidFill>
                  <a:srgbClr val="660033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15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800" y="2911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Happened: Martin is walking to visit 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 lightning strikes near him and the change in air pressure knocks him on his Bu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85800" y="5181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t was at this time he vowed to beco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45720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hiller"/>
              </a:rPr>
              <a:t>The Lightning Leg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2666880"/>
            <a:ext cx="6705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copy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3352680"/>
            <a:ext cx="67057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more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its original langua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ebr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28600" y="76320"/>
            <a:ext cx="8915400" cy="1297800"/>
            <a:chOff x="228600" y="76320"/>
            <a:chExt cx="8915400" cy="1297800"/>
          </a:xfrm>
        </p:grpSpPr>
        <p:sp>
          <p:nvSpPr>
            <p:cNvPr id="57" name="Text Box 4"/>
            <p:cNvSpPr/>
            <p:nvPr/>
          </p:nvSpPr>
          <p:spPr>
            <a:xfrm>
              <a:off x="228600" y="7632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stellar"/>
                </a:rPr>
                <a:t>Life as  a Monk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300400" y="914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stellar"/>
                </a:rPr>
                <a:t>1505-1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Object 11"/>
          <p:cNvGraphicFramePr/>
          <p:nvPr/>
        </p:nvGraphicFramePr>
        <p:xfrm>
          <a:off x="0" y="70866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086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2"/>
          <p:cNvGraphicFramePr/>
          <p:nvPr/>
        </p:nvGraphicFramePr>
        <p:xfrm>
          <a:off x="609480" y="71629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1629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219320" y="7162920"/>
          <a:ext cx="30456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71629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4"/>
          <p:cNvGraphicFramePr/>
          <p:nvPr/>
        </p:nvGraphicFramePr>
        <p:xfrm>
          <a:off x="1752480" y="7238880"/>
          <a:ext cx="3049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7238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5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s his Doctorate in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90720" y="54100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048120" y="5410080"/>
            <a:ext cx="5181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tudy of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2388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de Latin"/>
              </a:rPr>
              <a:t>The Teac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430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fter he left the Monastery, Martin Luther becomes a professor at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Wittenberg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14300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Taught 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128600" y="427824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also served as the town’s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 pr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1430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is is also where he began to question the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Catholic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28600" y="0"/>
            <a:ext cx="86868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skerville Old Face"/>
              </a:rPr>
              <a:t>Martin Luther’s Anger G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520" y="1219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uther   Notices  fewer  and  fewer  people  are showing  up  for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76520" y="2819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your sins to a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 reason  for  this :  the  catholic  church  was  offering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indul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752480" y="5562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money to the church to get rid of all you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981080" y="6858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0202"/>
                </a:solidFill>
                <a:latin typeface="comic"/>
              </a:rPr>
              <a:t>THE 95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0" y="1380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ober 31, 15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47920" y="2057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her writes a document listing 95 complaints about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u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447920" y="3581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ails the list to the Doors of his church (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2414520" y="73080"/>
            <a:ext cx="1030320" cy="672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686480" y="467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For Your Ey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219320" y="3445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The Task at H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5720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e a Theses of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2743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our Theses will contain at least 15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5720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Here are some possible categories that you can use, but are not limi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chool, Home, Teams, Hometown,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02"/>
                </a:solidFill>
                <a:latin typeface="Arial"/>
              </a:rPr>
              <a:t>Do not use anyone’s name specif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7:36:35Z</dcterms:created>
  <dc:creator>zimmermanj3</dc:creator>
  <dc:description/>
  <dc:language>en-US</dc:language>
  <cp:lastModifiedBy>zimmermanj3</cp:lastModifiedBy>
  <dcterms:modified xsi:type="dcterms:W3CDTF">2007-10-17T05:17:34Z</dcterms:modified>
  <cp:revision>33</cp:revision>
  <dc:subject/>
  <dc:title>The Reformation Begins</dc:title>
</cp:coreProperties>
</file>