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4F07-83F0-4709-B5E6-2DC6D1C996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9BDB-6977-43C5-8F2C-56CED7ABDA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545-54CA-444E-B3E5-D444B4A4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7CD-CA5D-476D-A9FC-D6AB8083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4DB-9A0D-407D-B37A-D4E2E7C1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F70-2EDE-490E-AA30-3996AFE5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7DA5-11A1-4030-863C-24E07706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A0A4-F587-4F58-AC2C-0F957FCA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B3E5-DF95-409C-8610-96B66948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F649-8108-490D-B406-F22B220C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8957-C4D9-4664-B012-96282995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6407-8D6B-4583-9656-E66E5058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8B8E-6F2D-4966-9587-A90288C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F61-534F-4C1D-8387-3EB56059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CA5E-FB96-4620-B079-9C512D4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8068-363C-43B1-B31E-80FD14C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F666-8D2E-442B-AD98-24FAAB98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17CD-3EAA-412E-BC06-47C42D4B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B1FD-F5E4-4F03-85A5-DF25DB02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43C1-91BD-4DCB-83C1-3F9C9220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6FF7C-4B34-4069-8FE6-598F15FA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6CE1-39C6-4100-AA6A-E0D2369C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E2F0-D4EA-41D8-8BCA-B63800B0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BCF0-DD34-47F9-883F-A1B09463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4C1-58CE-4424-B0D9-87959F14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2A45-B6F8-408E-8EF0-BCF7570C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431E-963F-4861-ADD8-C734470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EEAE-EE0C-4361-B8BB-9F78332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F17B-C44B-4E9E-9C3A-B191032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8388-A5D8-499C-AF4C-9F56B27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C745-A3D6-4F4D-BB03-822BD079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7B21-2A3C-4544-BF93-608AEE35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F722-EF8D-487C-9612-440B171B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C95A-5D90-495B-8DD5-7F489BAA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A5606-A3A8-4172-81F5-F0C5C88B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094-2E59-492F-9A64-4CDAB5E2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FA55-2FCB-4A55-A261-2B7D23CB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F401-41C0-4FBD-9717-8C3BB93B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478E-8E02-4C63-A3B0-F3786D4E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87826-805D-418E-8A4C-109534D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ACAC-863E-48BE-9FF1-A55AB3EC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FB8E-16B2-481E-AA85-A9618031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E541-BA4D-4EEF-B26D-663D23EF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32CFF-7F56-4371-A532-5FE062F0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1FF4-018A-442E-B811-AE59B00C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9F9CD-2EA9-49B3-BFCD-8C8AD2BA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D6F-3E1A-4126-BFFA-EC4B4F16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011F8-9A02-498A-8496-C0D190BC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36D98-E3F4-47E8-ACCC-129A6090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2F3B-8559-4177-920F-822D0E7A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E9AC-3F09-4D94-BE9D-10EB3AE3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B434-1BDD-4C28-B3E5-37C33EFF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F76F3-4D61-4025-B2E3-CD722098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AC428-090C-4A07-92BA-21600D29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F5C5C-804C-4FB2-AAB6-BB3E2AC1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8BA5-1377-48A3-BEF5-CB000F66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38E0-20E6-4529-81DF-0A59E4C2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773-22A4-47B4-BCD7-D4C2220C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AF60-994E-4D4D-A4FE-15350C2F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E21-3125-4202-966D-7BB42B9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429-7F14-4AEC-9C99-44B1FC1C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94B-6DE2-4964-BB93-D35634CB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2DE1-8FAE-42E6-9585-6D724F886C0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4023-196B-412D-A4C3-0985A194094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333-E02C-4AF5-A2BB-8F5ACB9F1E0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30A9-6318-4855-B709-F83E68D203B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9EFE-CF37-4F6A-B48B-4E747C58A62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1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2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7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14360" y="426960"/>
            <a:ext cx="5937120" cy="4357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057400" y="1143000"/>
            <a:ext cx="5638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609480" y="380880"/>
            <a:ext cx="3353040" cy="2911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609480" y="3429000"/>
            <a:ext cx="4048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zimmermanj3</cp:lastModifiedBy>
  <dcterms:modified xsi:type="dcterms:W3CDTF">2012-01-20T16:12:32Z</dcterms:modified>
  <cp:revision>20</cp:revision>
  <dc:subject/>
  <dc:title>Slide 1</dc:title>
</cp:coreProperties>
</file>