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55D5-5C68-44DB-9E12-E9106C6A8C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A962-5B5B-480D-9E95-27BCAD0C23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46C-24EE-4B36-B15A-84071915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CA2-3CBF-40BD-A273-F08BE425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596-E306-402B-BFD2-EB388AA6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C8C-5154-4C6F-A617-8BA8D745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DE05-F192-44E9-8B8B-286E468C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0A84-B2AB-40DC-8600-25B12CE1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1491-26F0-41B6-A2B5-785C2C6C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9230-2938-4973-90A7-FCF1E339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8B72-AD98-4A91-8D47-3B7E916F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7E7C-2ADC-4CC3-9D3E-711E16EA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5CF1-8F9D-4BA6-BB0F-1700874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9B6-3AD8-4E93-B844-8AC46CFB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60A4-E30D-4A0E-B941-5C976CC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660C-D554-4BF2-8383-E831AF5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FD36-135E-44A2-8AF4-623D2700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443A-B382-4F39-A169-988231A6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4642-EE89-493A-BAB4-2D195672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28F2-1C43-4CC5-9FDE-2CB5A854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0090-145C-476D-9275-A98A5556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99C4-A224-4E3E-B8B0-934AB57C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B9EB-CFF5-4CFA-8321-CD0CB6D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2822-B9FA-4F69-80D2-11ECC765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BC8-3472-4875-8594-FC5D09FA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3670-9124-4B50-9562-85E9309C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86F4-40B0-4B16-A395-189DB67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F1B3-B9A5-4A73-AD98-12F817CF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CA7E-D5C2-4FCE-90AF-8DBDD94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0F00-3A60-4E1F-BC75-568F4610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9793-6340-4CC8-A924-7BC0AE15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7D1A-21DD-4586-8074-60976945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D957-410F-4ECE-AA9E-B1BFE627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64C3-EA4C-4FCA-B479-93E21664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39C5D-EBD2-4BDD-A288-C40D6D35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133-58ED-4B66-A06D-BCD722A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2378-85AE-4877-AD79-BE733541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5A45A-7541-49AD-910F-82C021BE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0FC6-5118-404F-92E7-CE1CFB01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4DCC-0773-4973-A7A2-2C05CC0F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1DFB-6A75-46CF-9B7F-D62E1849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83E6-D9E6-41F5-9DA4-1468BE5E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0745-8021-4674-9A63-CE638319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816B1-13D8-4C22-ABED-4B3D1631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68DB-D42C-4782-B551-593F225B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71BB1-454F-424A-89C2-323769B7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FFB-1528-42CD-9AAF-2DB5FFF6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57065-051D-46AB-83EA-9C101EF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D64B4-0410-46FB-A885-62F80764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DFE5-EF19-4168-8FF7-6C3ED5FE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41507-CD87-4FFB-BC1A-DF71E6C3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B251-BCF4-4D53-B2C7-F3CBB6CC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0A82-2686-42D6-BAD9-1B1C2F26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8851C-8EDF-488E-90C4-78F93881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D90B-770F-465F-9A33-3165214C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E21D-910B-4EB5-8EB2-F5C7973B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7746E-4189-4F25-9C93-CE2AADBC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40B-49DE-4710-938F-F171A179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BC853-7A10-49A8-8548-0ACE73E6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CE9-9CCB-4AAE-9E69-0BC74CE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4A9-A186-4268-A90C-4A69166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8D4-2AEB-467E-BCAD-E3C2664D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FF3D-08B1-4293-8EC4-401219EBEA9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671A-B1B7-4BEE-947D-43E7DCF89DF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ECA8-59C3-4C16-BD13-FC5DBDE3EDD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114F-2090-493C-8D4D-A31961ED865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42B3-E5F5-4DD0-A41A-E67D063CB21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1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2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7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14360" y="426960"/>
            <a:ext cx="5937120" cy="4357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057400" y="1143000"/>
            <a:ext cx="5638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b9f25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609480" y="380880"/>
            <a:ext cx="3353040" cy="2911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609480" y="3429000"/>
            <a:ext cx="4048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zimmermanj3</cp:lastModifiedBy>
  <dcterms:modified xsi:type="dcterms:W3CDTF">2012-01-20T16:12:32Z</dcterms:modified>
  <cp:revision>20</cp:revision>
  <dc:subject/>
  <dc:title>Slide 1</dc:title>
</cp:coreProperties>
</file>