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A769-E84A-4D82-A7F5-39111C3A70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6A47-2749-4A51-9A6D-7522D64891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E41-8085-4B2E-A12D-E9562B1F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E89-6B39-4E64-B73F-A3720600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F3D-6EC8-475E-84AC-A89F371D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465-4962-4B39-A385-30CE4546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0E8D-A7B4-457C-9479-85EFAB1C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DD26-E486-4254-BA80-DF4A582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D90F-5999-4D0A-B5ED-2280CE3F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ABAB-4B7D-49F2-AA3F-939741D9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B9F3-32DF-4FF3-A6F9-2684CF43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5819-8D03-4E0C-A30A-822827CD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CF27-D478-4E77-B757-B67F8D0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657-4FE2-4AF0-8AAB-BAD2FE1F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5FD8-AD49-4CE5-B70A-D4D3F25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2512-626B-4072-879D-6DFD6360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57D0-F921-453C-BAE0-1058BF02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F0DA-D9B0-4F29-ABBB-D171FF3A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6B10-6F4C-4C2D-BDC4-A1D67258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14E0-4A88-460F-896A-D92484D8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C12F-9734-4DBD-AEAA-E6407C07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5927-E76C-46E7-98BB-3459B693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108B-0321-4E80-A5D7-8ECD76CE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EA5A-8007-4ECD-A1A6-FB81D92B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040-9A85-4489-96BB-87B60E3E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E8F0-878E-41C5-8E77-51CE9B41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A7E9-B4FE-4E0E-A5AB-290A9B40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3D13-9CD0-4317-9BBA-1E040F31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D1922-6093-4F6F-A2EF-A3BB131B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0C43-29F7-4CA5-A3E7-18A245EB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40FE-AECD-404F-AF63-FF492BD5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0DC2A-22EF-46D6-94AC-C3F4D9F5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3EC5-719F-42CA-9446-AEA9A715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76A6-4916-4AF8-93D5-5FA0366C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B7ED-DB70-48EE-8C68-967BF54C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A20-D53F-4F97-9E85-502693B0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58C5-6478-4FBB-9A24-5B6E94B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0C0FF-03C0-494D-AB43-5BD505F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E414-C648-4FFE-BD68-937D86D2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6918-E64C-4E2A-ACBE-DCC578C0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9E35-2BBF-4904-BD01-C94AF93F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7795-93C9-47A5-9289-880815AD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96B86-8422-4395-A846-C5A93A60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6E81-7F81-4707-98F5-54A0E4D4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F3109-42A8-475A-B781-52ADC19A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1CBC1-CC23-4C2C-8C7C-D0AF5A3E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B3A-8D9A-4002-800A-911097D3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19EDA-A726-435D-A8C4-2E247E49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E22CD-1971-4A02-AD26-4AA4FF89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D59A-7F76-4D82-A2CE-D3A01C1D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8C3F3-4AC4-41F2-AB93-652F3821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679E4-FD24-4BFC-908B-D99070DB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778E4-0499-4131-993A-83E53AE9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71E83-535A-4A67-B329-DDAFE35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4778C-4B5B-4C89-80A4-55F07AF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99FD2-5FBA-4F47-9D7D-A72F5367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F09AD-D036-4E0A-A94E-FE6072A1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0CD-854F-4293-8E1B-94E4E7E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155E9-1B7B-4366-9FEA-E7483C6B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5D2-1405-44BF-8A1F-F1CBBA7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5C4-4BC0-4306-9435-B04097B9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842-D039-482C-AA08-C6C161D7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C58C-F72E-4985-BD67-E621646BD7B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A1CA-227C-4315-8BD3-49A490C5D73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D5C3-27DF-4403-BEF1-C3E1D91EF7F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7D69-CE0A-4061-8DCD-47C3072B449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90D0-55B7-45DE-B7EC-6C044CDF1E0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1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2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7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14360" y="426960"/>
            <a:ext cx="5937120" cy="4357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057400" y="1143000"/>
            <a:ext cx="5638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609480" y="380880"/>
            <a:ext cx="3353040" cy="2911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609480" y="3429000"/>
            <a:ext cx="4048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zimmermanj3</cp:lastModifiedBy>
  <dcterms:modified xsi:type="dcterms:W3CDTF">2012-01-20T16:12:32Z</dcterms:modified>
  <cp:revision>20</cp:revision>
  <dc:subject/>
  <dc:title>Slide 1</dc:title>
</cp:coreProperties>
</file>