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BA95-F92C-49D9-A5B5-DB29BA1177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82EA-8409-4DC0-B55A-4B540327EF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76F4-63BB-402B-947C-A8800A22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C3F-AC52-40C1-B1F7-0B3020B5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5FF-720C-4F20-AD85-862A6594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E03-E913-43F4-9700-EF7DCDE6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B2C2-E10B-4240-A2D9-8E162A0E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B3E6-2048-4F4D-B76A-1548AA93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FC65-7C33-46D9-B474-8EAE12F6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E25C-AAAF-47A4-BF38-CAA500BD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6653-42CC-499A-B95E-83882BA4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1BFA-CBD7-41FE-8596-50258E84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2832-6E9C-4778-9A4F-625BDD29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4D8-A331-47A9-8567-25F70E28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844F-E794-4564-B003-E967B226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00D2-A7A3-472A-A38A-F45F98E7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F809-7EA9-4123-BC9F-11A655D6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E43B-5AF2-4474-B7A2-5D75C46B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F5AF-55A1-41FC-AD30-B0DB9B9B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39CD2-E3F6-4FFB-AC05-302F40A7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1614B-0470-410F-888E-DF320F6F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AEA8-9508-4D61-B5BB-C2DE1ADC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78744-A587-4E41-82B5-51DBF9DA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B99B8-BC79-4E7D-9537-EF18C3E5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EC8-1843-4058-B8F7-CAE32C29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66494-69FE-4068-80D1-FB4071A7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27C96-8F10-4E7E-9A24-2F601709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338FB-4BCB-4C9A-B1CE-00B9E6F2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A5639-F8B2-4A81-806C-BBAC4235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A609B-5B0F-48E2-9EC1-D8FB32DF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1CA36-5E14-43D9-9408-CCB0F976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9AF68-6D89-475A-9098-1926ED28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FDFBF-9228-48B0-8533-3BEB68AE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A6FF7-9FD2-4345-BB14-9D28D6F2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55889-61B8-481F-8B17-6CF64851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DB4-B928-48F5-A499-5FE06D34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D287A-EFEC-4309-B97A-AD9A99A9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86505-61BC-40A7-8242-F0E870BC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D9299-03B3-47E7-BCB8-363C2514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739F-01F5-4948-9881-FA826931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82440-A4A5-4F93-9781-2CDB805C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C9277-05BE-4922-AB11-4E5EDAA7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CF262-0037-4F5B-B77F-7ABB9682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F11C7-5108-46FC-9C6C-AA14A873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B68C6-BAD8-463D-8A0C-39459DE7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959D4-008A-4A70-9D54-9E96F6BC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D86-E197-4D2E-92A3-F7CE8D40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91BB8-5B33-4A61-AD06-18C0FBE1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23CA8-109E-4767-88E5-D24062BC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A9497-2B6B-4CCD-B6DB-32994ED4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FBB20-93CB-4BB6-A455-7EC735AB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C4B09-ECF8-47BB-98A9-070E68E7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488FF-0FBD-4BC0-9022-A4BFB361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F652E-25E7-4B9B-B2C4-F85A4EB7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4DA2F-740A-4F40-A4CD-E060328D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FFAA9-A136-4A2E-88B6-62F97294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59596-7307-43F1-BAB7-DFDD50C6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79C-182C-4285-B26E-C882E300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32CCC-98BB-401A-A624-2353A962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64E-E721-4227-8E43-4838743B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4F4-AABC-4DB2-BE89-0A46C1EF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E89-DDB7-4297-9692-DC940EBF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4215-C5F5-4D38-8E51-B87C81D9D59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9B96-419B-4309-B5E1-62C6A9310E7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1D8C-D5C2-44A3-86B9-B788780AA45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6474-FC56-4C1B-900A-D956642A491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D894-7192-4298-9C6D-DD1750EC2DF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58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firstworldwar.com/features/trenchlif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3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91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4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2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6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7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14360" y="426960"/>
            <a:ext cx="5937120" cy="4357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057400" y="1143000"/>
            <a:ext cx="5638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powerpoint was kindly dona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b9f25"/>
                </a:solidFill>
                <a:uFillTx/>
                <a:latin typeface="Georgia"/>
                <a:hlinkClick r:id="rId1"/>
              </a:rPr>
              <a:t>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b9f25"/>
                </a:solidFill>
                <a:uFillTx/>
                <a:latin typeface="Georgia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s home to well over a thousand powerpoints submitted by teachers. This a free site. Please visit and I hope it will help in you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60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70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609480" y="380880"/>
            <a:ext cx="3353040" cy="291168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http://www.spartacus.schoolnet.co.uk/FWWfoot.jpg"/>
          <p:cNvPicPr/>
          <p:nvPr/>
        </p:nvPicPr>
        <p:blipFill>
          <a:blip r:embed="rId3"/>
          <a:stretch/>
        </p:blipFill>
        <p:spPr>
          <a:xfrm>
            <a:off x="609480" y="3429000"/>
            <a:ext cx="40482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zimmermanj3</cp:lastModifiedBy>
  <dcterms:modified xsi:type="dcterms:W3CDTF">2012-01-20T16:12:32Z</dcterms:modified>
  <cp:revision>20</cp:revision>
  <dc:subject/>
  <dc:title>Slide 1</dc:title>
</cp:coreProperties>
</file>