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BE2E-9CCD-48B6-90C7-60E11CC03D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0EA6-30DE-42C8-B979-919FDD7F25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083-ED12-4B2B-933D-42957E56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7D1-EA29-49A8-9286-5DA2AC33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AEB-1C16-4387-BC02-6D89E367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2B6-4F47-4925-9250-8D2C91A0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6EF1-DB6F-4B8E-BD41-C001AB59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6F29-1187-4B63-A71B-4057EFBB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992E-ABCC-45A0-8134-0B8C5C74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CC0C-28FE-454A-AC66-E2E342F1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22F2-C348-459A-8DA7-21D7AE16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47EB-8DD2-4839-961A-50FD02C9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5BE8-94E3-4757-BB1E-1F04849B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94D-F92D-4292-91B9-5206B0D3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6D81-723C-4BE0-BF3C-5507763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A652-300D-4BDE-AC0C-4E80411F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A282-EC7E-4634-9A32-8AF4EF2B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C3C7-4001-4890-B34B-AB88F628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D194-7648-4F9F-A7FF-B459E55E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F2DB-7A91-4F8A-A6F7-2948D72E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C122-6A39-45DB-8043-F0D0AD9C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C54F-8291-4FAA-924A-0EDE00C8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6175-926B-4286-8B52-19B59B10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F677-657B-4CE5-943A-BA1ACD8E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692-130E-468C-9B7A-68A4FC0E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9A1D6-48E1-49A8-95E0-9CFE3729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0F59-FAC7-40A7-AE75-16B777D4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EE74-25F5-4204-9ACD-1973E464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82CD-ACCA-48C9-99CF-EC720BE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4422-B024-4F7B-B5CF-6C46A91D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4647-986E-4306-918C-2016EC40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4CFA-EDCD-40D5-A578-903360AB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BDE3-F78D-4C1E-9E41-5047ABB4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574E-EBC5-4399-B163-FB9BD90D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FC57-594B-40F2-BBCE-5D074531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2D2-C405-4141-9C2E-BA934E15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7673-71D3-4E1E-B895-7409B0AA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06CC1-7711-45D8-8FDB-8153E76B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5495-3DDA-4772-B168-A136DDB5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A6F6F-AD4C-4E7E-9090-F3660168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2CE7D-F7CE-41CB-A409-33BD2F5A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A9841-8B58-4149-A1C9-9AF38A18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71201-9962-480E-BD3F-72116971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BFD30-0C94-48F0-B93C-80BF93BF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B760E-6B09-4797-BFA8-A6307D8D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E2034-638D-499F-9D76-E3E80605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B5B-3CDD-4281-870B-09284951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E2FE-C7FC-4F3A-A2B8-A0106C89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9D2B1-2914-415D-ABC1-E89ADE52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C8D14-6B17-412B-8E0C-4CD63601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26921-ADDD-485E-948A-ECC102D2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58BB0-A88D-47E7-BE3F-3C9908A0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14801-A8F0-495A-8479-58A3F38B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C5F9C-A6FC-40A6-9FB0-362E01E5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A202C-91B6-484A-A3C6-24AC1061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BE85-16FB-4E50-985D-17C42917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B5366-237A-406D-86D6-F6C7318D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A13-CCB8-4F22-A621-0094E800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E2F17-E32F-4ACD-A746-52B3B0E9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B3D-D309-46B8-A28C-F1431CCB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DE0-E9CB-428C-A7C4-CCB33258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BE4-BE5C-43CF-87EE-CF290D8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95EC-B6D0-446A-AF50-7730CE2F878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CACC-1699-471A-AAD4-DBC100F9239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EAEC-3C36-46BD-BD82-329E1B05A3F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78BC-48A4-4A63-9259-CDF94537291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123C-68D5-407B-B44A-76547FA57CC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1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2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7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14360" y="426960"/>
            <a:ext cx="5937120" cy="4357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057400" y="1143000"/>
            <a:ext cx="5638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609480" y="380880"/>
            <a:ext cx="3353040" cy="2911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609480" y="3429000"/>
            <a:ext cx="4048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zimmermanj3</cp:lastModifiedBy>
  <dcterms:modified xsi:type="dcterms:W3CDTF">2012-01-20T16:12:32Z</dcterms:modified>
  <cp:revision>20</cp:revision>
  <dc:subject/>
  <dc:title>Slide 1</dc:title>
</cp:coreProperties>
</file>