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4C1D-C251-4FE2-949E-C3E349A4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169-C3FE-4E7D-AB49-0E40FDB7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85D-ACDA-4A19-A3BC-C028153B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E72-2702-4B88-903A-EF6F7A27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4BBB-BA92-4B8E-B084-F5961501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1294-95F9-4FDA-8DB3-E4A499C7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A95D-A8CD-432B-8C25-504F4DEF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4BF0-3486-40E6-B9B6-D2ADBAF5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0BAF-A2DE-41AF-ACB3-3D35BA4C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5E5A-F121-4728-AF38-42BA6380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3F97-F4D0-40BD-AC1F-7298BB9A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AE8-F409-426D-BF33-255D757C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7A13-9353-44FE-8DC1-16697D42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3B7D-1FFB-4CA0-8AB0-73A907FE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FE9B-A9A1-4C7F-91FB-1CCCB54F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FAB0-9CCF-4EAA-A856-5BFB3924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56C5-FB31-424A-A662-A2E8962F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A1205-3196-444F-97B8-A3570718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CE628-E034-4D6C-9E85-738230BF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5E97B-60A5-4C06-BA20-278C0F5D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A0481-2F54-43A9-881C-6CBB8C21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F295E-62C1-405B-8B35-D4549F86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DAA-04EB-45A3-B32E-F4EF6233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CA499-F551-4AB2-9643-B25DBA4B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A9477-FC40-41A2-82A8-2F20E308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52614-DABA-4459-B304-B2A7501D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FCEAA-6797-4753-8759-E2235E5E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2DFAF-0061-40A2-9207-EC54BC04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DFCD2-3DF5-4AD5-9B8B-EC8F683C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18DC0-6B1D-401B-A02C-CB9AFC24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7CFE8-CA96-46C2-9F57-2D1C46F9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F044F-55E5-4F5B-AE64-D3DDD043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80BBD-3B53-4962-8844-0D9CC440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3C6-EF17-4EE9-B4BB-020BD4BB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E8B80-BFBE-41B7-92D7-50B094F6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B53DB-E143-425A-83FC-CC8C6780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049D4-E31D-41CF-96DA-C7860092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7DEDF-72CD-44B7-8D53-7268466A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750AE-B4F5-4750-B9AA-E4E7540B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1F6C9-F434-4DDC-8E40-5C20B870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453D6-40F6-4387-90A8-3A6DC929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61DC3-A6E7-4018-8409-A0C2E4FE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B75EC-ACDC-4709-873E-8BAFB9B8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484D2-5B1B-4658-99BF-79596A84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4106-AC2D-42A9-9A07-47671CA7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C8AF5-7083-4C6B-BB3E-1D26D857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64439-20C1-4FDA-842E-660DF010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819C5-E6DB-4887-A2E9-C05DB89B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DD2DA-1BC3-4653-BF25-30E6F35F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BD5F9-EC61-4139-8D96-3E7749EF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4B1FC-49CA-46DB-BEF2-DD322F02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62F90-E27B-4E67-BB02-BE9D23FB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D0894-4E27-4F40-B48D-42ACD2BB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E8B8B-4A5D-46B4-B1D8-79CCFDD2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71EC9-2BED-4DE1-8C34-C69036D8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967-DEFB-4213-8B41-A177A174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F65D5-8A66-4196-9B45-85E0DFA5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C1F-0E6D-477B-B846-7C3352AE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B2C-DEFB-4F98-9F02-35339E77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69F-0183-4488-8539-61BDCB53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EA11-9188-407B-901F-5C84D04D91C4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7E8F-8CCB-4EC1-924E-60A5134FA15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6DFF-BA2D-498D-9560-6EF2440C6502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25DD-62ED-455B-8D85-357473E0FCF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FF70-4560-43C0-9B60-F51158A17D22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7271-37AC-445D-BEA1-6BB1889C2CE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32A5-7482-4BEA-8971-3B45AFBA1901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76EE-73BB-4FED-8F6B-6B9CC77BB8F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4DCC-5F26-4626-B369-56AF335E2501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5BC9-5F8B-41ED-867A-08503D99888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C5E8-78EA-423B-9E87-BDF321E8D801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F27C-C5FD-4151-A08A-4B15680D765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15235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Garamond"/>
              </a:rPr>
              <a:t>The Electoral College</a:t>
            </a:r>
            <a:endParaRPr b="0" lang="en-US" sz="8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9680" y="822240"/>
            <a:ext cx="7916760" cy="1006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Garamond"/>
              </a:rPr>
              <a:t>The Real Election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586B-D270-4025-AA7E-E7D817C8DC1C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75D0-D26E-4220-A989-A6BDBF1E4CD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91920" y="2378160"/>
            <a:ext cx="791676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 December of election yea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electors gather in their respective state capitols to cast ballots for president and vice president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 Januar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gress comes into se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y open the ballots received from each sta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y announce the official outcom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What if no one receives a majority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7217-ADBB-4A15-8328-D1647E804D6C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1576-1A09-478A-B8F7-D80B0F783CB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 win, a candidate needs a majority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70 electoral votes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f no candidate has a majority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House of Representatives selects the president from among the three presidential candidates with the most electoral votes. 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f this happens, each state has one vote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appened only once!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80000"/>
              </a:lnSpc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1824 Congress chose John Quincy Adams over Andrew Jackson and Henry Clay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Senate selects the vice president from the top two vice-presidential candidat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Popular Vote v. the Electoral Vote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8045-4DD4-4C8E-B895-A0D33E955EB6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0DE8-1A1A-4723-A505-C7C3E5C708D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 a close race, the popular vote winner may not win the electoral college.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e candidate may win states by lopsided margins while the other wins states by narrow margins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lectoral vote winners who lost the popular vo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ush over Gore in 2000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enjamin Harrison over Grover Cleveland in 1888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utherford B. Hayes over Samuel Tilden in 1876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Criticisms of the Electoral College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B379-574E-44F9-AE17-BBBF5C1A3350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6553-5B9B-4783-B3EF-DFAE7D93130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14520" y="1676520"/>
            <a:ext cx="7837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popular vote winner may lose the presidenc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Electors may vote for persons other than their party’s presidential and vice presidential candidat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If no candidate receives a majority, Congress will pick the president and vice presid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Proposals for Reform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8E98-B5C9-4445-83DA-3E4820F03A7D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C96A-9B38-4B13-B64C-5696E7260B8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120" y="175248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Eliminate electors but still count electoral vot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Choose the president by direct popular elec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FBC9-3F98-4AA3-90F3-E4959EC4EE77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9BCB-6416-4D91-B984-54758CDACA1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North Carolina has 13 U.S. representatives.  How many electoral votes does the state have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2DFC-4311-4E35-9E24-DF911D2B38C8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FFBA-29F6-4897-913F-C17638B83EF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92280" y="2695680"/>
            <a:ext cx="768168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Who are elector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Answer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581D-587F-4704-A1C4-30DB0453B3BE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D3A1-60FC-442D-A308-781D2FFC1DE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y are individuals selected in each state to officially cast that state’s electoral votes.  Electors are typically long-time party activists who are selected by their state party organization as a reward for their loyalty to the party.  In most states, electors are officially pledged to support their party’s presidential and vice presidential candidat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46D6-7A41-49D8-A9FF-6B1813DE5B99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0E83-F5C7-473B-8899-5CEF1E8AF82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Does it matter whether a candidate carries a state by a few votes or a lot of vote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Answer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24D8-8055-4619-97FE-B7C84F3EC788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D1CD-CA65-43A1-BD48-8EE935AFC0B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No.  A candidate receives all of a state’s electoral votes whether the candidate carries the state by one vote or a million votes.  In every state except Nebraska and Maine, the race is winner take al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True or False?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4BB3-F68B-40E0-BE07-BF768A7D9970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A034-88D0-4769-9026-89708E50E38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69680" y="2774520"/>
            <a:ext cx="7916760" cy="29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candidate with the most votes is elected presid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Answer: Not necessarily.  Ask Al Gor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6CC3-7136-48EB-A309-5C5123E31C77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2384-51C9-45A0-B03E-6257431EE8B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What is the small state bia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Answer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942D-ACD7-4FF2-9A5E-503A4BEF5D17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056F-E47C-4DB7-B541-B0A7581A19E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electoral college has a small state bias because every state gets at least three electoral votes regardless of its population.  As a result, small states such as Alaska, Wyoming, and South Dakota enjoy a greater percentage of electoral votes than they would merit based strictly on popula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The 2000 Election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9DE7-6BE5-4C7A-BDE1-CCD56A8E2A40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2FA8-220A-4E1A-B03C-78EC6A545E3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Popular Vo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l Gor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0,996,039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eorge W. Bush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0,456,141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Electoral Vo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eorge W. Bush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71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l Gor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67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Historical Background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1363-239F-4849-8F64-05305718451C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8D03-B180-45F6-B6E5-CA2015F74F5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91920" y="2536560"/>
            <a:ext cx="7916760" cy="26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framers of the Constitution disagreed on how to elect a presid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ngressional selection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rect popular electio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electoral college was a compromi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mbining features of both approach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The Electoral College and Federalism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FE77-566D-4BCB-A831-A282DAB320DB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B5FD-2EF8-4588-B971-B82CD5953E0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electoral college also reflects the federal nature of the Constit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sures that the states have a role in selecting the presiden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0" lang="en-US" sz="4900" spc="-1" strike="noStrike">
                <a:solidFill>
                  <a:srgbClr val="696464"/>
                </a:solidFill>
                <a:latin typeface="Garamond"/>
              </a:rPr>
              <a:t>State Electoral Votes</a:t>
            </a:r>
            <a:endParaRPr b="0" lang="en-US" sz="4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83A2-4034-49B6-A86F-E879680639BE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925D-9B4D-4272-843D-D8A30FB65A3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Each state is entitled to as many electoral votes as the sum of its represent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U.S. House of Representativ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U.S. House of Senat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Ohio: 18 House members plus 2 senators = 20 electoral vot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Total: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435 House member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100 senator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3 electors for the District of Columbia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= 538 electoral vot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38080" y="8380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143000" y="2895480"/>
            <a:ext cx="7696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Garamond"/>
              </a:rPr>
              <a:t>Who are the Electors?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50FA-6DAC-49C2-AC4F-29708F707C7C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9E2E-436E-41BC-A08A-48A7A644805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0880" y="19047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Individuals selected in each state to officially cast that state’s electoral vot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Ohio selects 20 electors to cast the state’s 20 electoral vot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ramers anticipated that electors would be state leaders who would exercise good judgment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Today, party leaders select electors who are typically long-time party activist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Electors almost always vote for their party’s candidat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Delegate Votes Divided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DD75-74EB-484D-A3B5-116788DD0233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F13D-4C3B-4852-8A56-0B494A66953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92280" y="1980720"/>
            <a:ext cx="7837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Each state determines the manner of sel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All but two states use a winner-take-all delegates statewide election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brask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a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veryone el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f Candidate A gets the most votes in a state, Candidate A gets the all of the delegat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Voters and Electors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C335-E057-45C7-9875-F999136D3375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DFFC-1DF5-4A7E-B333-B87C37C7C17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92280" y="1828800"/>
            <a:ext cx="775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refore,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n Ohioan who votes for Obama is really voting for a elector pledged to cast the state’s electoral votes for Obama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n 2000, Bush won all of Florida’s 25 electoral votes because the final official vote tally showed him ahead of Gore by about 600 vot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orter, Daryl</dc:creator>
  <dc:description/>
  <dc:language>en-US</dc:language>
  <cp:lastModifiedBy>Josh Zimmerman</cp:lastModifiedBy>
  <dcterms:modified xsi:type="dcterms:W3CDTF">2015-02-11T13:46:50Z</dcterms:modified>
  <cp:revision>72</cp:revision>
  <dc:subject/>
  <dc:title>PowerPoint Presentation</dc:title>
</cp:coreProperties>
</file>