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2FC9-6EC2-4E9A-AD3D-E74992F9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3446-1FF3-4954-93DB-C29A0780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02A-1E02-4ECC-A42F-3EC93CC3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FEF-C5C3-455C-B1CC-B4B6E64C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35CB-0889-45D6-9C7F-7525B419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5E9B-22A5-4A7E-B8F3-010B2D1F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0C07-759A-48BB-B0D6-C4429252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FBA6-480E-46D0-BA8B-ECBF452E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C18A-3679-486C-987F-A7231E31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D2FC-9C80-4C7D-94ED-87A641EC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F02D-0EB1-4426-B819-EB3C373C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491-6471-4CB2-AA85-93D70741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CAA8-F07E-4107-A3AA-CDF67B7B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5248-FD69-4CFD-A4F3-7AEDC132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0D90-1FD5-4FB0-AAAF-477C1927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BF14-A355-4D77-8919-C451792F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DFDB-5CB8-4953-82D9-0C4A9592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90FD2-31D3-476A-9E09-70C76275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94859-5D62-4389-97BC-E173DDAC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EF30C-A2F6-44B6-88F3-4F03C168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24ED4-2112-4FCA-851F-F28452F4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631FE-5842-423E-B079-47D4AAA4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51E2-2FF0-4BD2-A157-677FEB90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C594B-8C8C-4B72-8B79-89B059E3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457D1-A986-4996-8221-E60AB7BD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FFBE5-7226-4DE7-9D85-3022D065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E9125-731A-4D22-B7A1-4AB01C19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7E150-7595-4731-935B-162D6DBD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114DC-B175-4C4D-8E81-FA38D5C6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9A3F3-4D87-4F0F-9107-8C1B7633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61389-680E-4B8A-880E-850BDB54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B38BB-9D52-4B32-AA07-ADA7CB55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BD15C-EA65-4D99-9772-92D99E33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FE15-9373-4277-982F-C6BBC4E6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E0B1C-3E4A-460A-9F36-7B4321A0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EC905-95C3-49FB-BAB9-A31B19C2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48AEC-2F10-4E17-AFD5-0B1C6784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2FB88-14B3-4A59-A00A-6AF3CB3F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22DD5-6D3D-4ED2-8D6E-4EFB7C1E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F68DE-3B2B-4D10-AC74-654E793E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FA5E2-A31C-4358-9A5B-DD8BA54B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2D020-78EB-4F28-AC21-BF6A707B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7D383-AF1C-4C90-83D0-E35C4EEB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57EAD-A1C8-4087-A69E-1928FE3A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4246-3F2E-48D6-A2F6-68091E53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4FD0C-DC40-47A1-BE0D-03000E4D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9D6D1-35D1-40C6-8692-4C7885F3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21B48-716C-412F-88BF-D7D424AC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BB02C-F383-4469-B97D-66520801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C35FA-4780-4B21-80EE-90E92FEC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0FEE1-B506-4FDB-BD50-709268A9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3E069-1229-4CDA-B467-0953D197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C267B-E0BE-4806-8089-9669F9DA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8CE47-E9F1-4E47-85AE-3FB99823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4683A-B49D-45E4-823E-2AA3B9F7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A954-E047-42D7-A6C3-46C078F1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3E733-5708-4382-B934-8E7D2789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C41B-9AAE-4886-8B4A-C9343EE1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8F5-66FA-4B19-9B98-D69BB96A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DBD-EF81-4A39-BF39-298873DA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EB30-5812-495E-AF9A-8454B9C362B0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DF96-BA3C-48BF-97F7-F29E644CFB8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C435-CC1B-4F5E-B9D9-354241F386CD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BF94-DF48-4519-BF66-B8E8C20A7AD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96A0-9E24-4CAA-B899-AF4A28E6B507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4A86-0C70-4FE9-9A5B-FBBD1344437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D91C-9EAE-4D08-AD04-1DB25E8CB299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D305-3EB0-4057-89C5-41AFE3B124F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4A40-207E-4980-BAD9-E6DA9D0CE3DE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B800-DF05-41B2-AE47-56FA8EDF4D5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32A3-54D2-4FFE-A573-A11D3FE03D06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3319-1D76-4BAC-A03E-1502F7213B2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15235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Garamond"/>
              </a:rPr>
              <a:t>The Electoral College</a:t>
            </a:r>
            <a:endParaRPr b="0" lang="en-US" sz="8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9680" y="822240"/>
            <a:ext cx="7916760" cy="1006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Garamond"/>
              </a:rPr>
              <a:t>The Real Election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CA65-CAEE-4B25-8F4A-8F2FD68EF18A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B62E-7E93-41B3-9EF4-D425318018E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91920" y="2378160"/>
            <a:ext cx="791676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 December of election yea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electors gather in their respective state capitols to cast ballots for president and vice president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 Januar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gress comes into se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y open the ballots received from each sta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y announce the official outcom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What if no one receives a majority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EED1-0FB8-4C39-9511-89A710A627E6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F7AD-F0D3-45C7-805F-8F08CE6C1E3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 win, a candidate needs a majority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70 electoral votes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f no candidate has a majority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House of Representatives selects the president from among the three presidential candidates with the most electoral votes. 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f this happens, each state has one vote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appened only once!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80000"/>
              </a:lnSpc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1824 Congress chose John Quincy Adams over Andrew Jackson and Henry Clay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Senate selects the vice president from the top two vice-presidential candidat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Popular Vote v. the Electoral Vote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D260-B26D-413B-A724-A497B91DCC5E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A4FF-4EDC-40B1-86C7-A13BAAAB547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 a close race, the popular vote winner may not win the electoral college.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e candidate may win states by lopsided margins while the other wins states by narrow margins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lectoral vote winners who lost the popular vo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ush over Gore in 2000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enjamin Harrison over Grover Cleveland in 1888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utherford B. Hayes over Samuel Tilden in 1876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Criticisms of the Electoral College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1CE8-B145-4BC3-8CD5-39A2DC10A47E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55D3-9ED3-4BFA-ABBE-02F7FC85FE0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14520" y="1676520"/>
            <a:ext cx="7837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popular vote winner may lose the presidenc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Electors may vote for persons other than their party’s presidential and vice presidential candidat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If no candidate receives a majority, Congress will pick the president and vice presid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Proposals for Reform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10BE-119B-44C5-9B0A-7EB992E0E540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2721-F1EE-4881-A731-9FE14F1F074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120" y="175248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Eliminate electors but still count electoral vot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Choose the president by direct popular elec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92AD-446C-48F3-A155-8E8656F7B3E2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CAAB-32EB-4D65-AB7A-0DEE0DF359D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North Carolina has 13 U.S. representatives.  How many electoral votes does the state have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51B2-494E-4237-875D-C14F92352D57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93A8-9747-44FA-9618-09472200B90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92280" y="2695680"/>
            <a:ext cx="768168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Who are elector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Answer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E807-549E-491A-920B-FE63251D304C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43BD-D9A7-4AAB-AEA0-E3F34EA098E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y are individuals selected in each state to officially cast that state’s electoral votes.  Electors are typically long-time party activists who are selected by their state party organization as a reward for their loyalty to the party.  In most states, electors are officially pledged to support their party’s presidential and vice presidential candidat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0AC8-24B7-4B2D-BE76-9AC4F95E5879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3645-5D8D-4325-8EF3-1524AFF041F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Does it matter whether a candidate carries a state by a few votes or a lot of vote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Answer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1F9E-0408-452A-9E82-427E18803785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5959-8D79-4E77-B5AD-28BD6724F97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No.  A candidate receives all of a state’s electoral votes whether the candidate carries the state by one vote or a million votes.  In every state except Nebraska and Maine, the race is winner take al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True or False?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D117-4873-426C-874F-1F4A88EB7B08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845A-7BB9-47DD-894B-194FAE6EABE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69680" y="2774520"/>
            <a:ext cx="7916760" cy="29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candidate with the most votes is elected presid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Answer: Not necessarily.  Ask Al Gor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CF9A-47B6-4D0A-8073-B720D5203D74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0C4A-CF77-45F5-9229-AE22200CD10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What is the small state bia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Answer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2A82-53D0-4A4A-B14D-15473786EE65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828A-1242-4A0C-B202-4CA2D323C91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electoral college has a small state bias because every state gets at least three electoral votes regardless of its population.  As a result, small states such as Alaska, Wyoming, and South Dakota enjoy a greater percentage of electoral votes than they would merit based strictly on popula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The 2000 Election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09F9-8DCC-4E23-8FD2-9123A44B3FF8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3C91-E6FA-4108-87C8-F170590B023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Popular Vo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l Gor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0,996,039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eorge W. Bush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0,456,141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Electoral Vo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eorge W. Bush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71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l Gor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67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Historical Background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72D4-FA17-441E-A130-DD1116404AEC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D2BF-EC6E-432C-9B7D-7DE721A02EE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91920" y="2536560"/>
            <a:ext cx="7916760" cy="26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framers of the Constitution disagreed on how to elect a presid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ngressional selection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rect popular electio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electoral college was a compromi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mbining features of both approach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The Electoral College and Federalism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4712-0E60-4FBA-8B7E-EAB5EF3CB450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1958-BF01-4545-AFF9-1B952554B4D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electoral college also reflects the federal nature of the Constit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sures that the states have a role in selecting the presiden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0" lang="en-US" sz="4900" spc="-1" strike="noStrike">
                <a:solidFill>
                  <a:srgbClr val="696464"/>
                </a:solidFill>
                <a:latin typeface="Garamond"/>
              </a:rPr>
              <a:t>State Electoral Votes</a:t>
            </a:r>
            <a:endParaRPr b="0" lang="en-US" sz="4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B2B5-A41F-4301-854E-EBDB65F15F71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2C16-D33A-4E51-AC24-6E5F255027C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Each state is entitled to as many electoral votes as the sum of its represent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U.S. House of Representativ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U.S. House of Senat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Ohio: 18 House members plus 2 senators = 20 electoral vot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Total: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435 House member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100 senator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3 electors for the District of Columbia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= 538 electoral vot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38080" y="8380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143000" y="2895480"/>
            <a:ext cx="7696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Garamond"/>
              </a:rPr>
              <a:t>Who are the Electors?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6D9F-180E-46E8-BC7B-C9A2617E2EF8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D912-E307-4FD9-801B-C54B31865E9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0880" y="19047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Individuals selected in each state to officially cast that state’s electoral vot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Ohio selects 20 electors to cast the state’s 20 electoral vot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ramers anticipated that electors would be state leaders who would exercise good judgment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Today, party leaders select electors who are typically long-time party activist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Electors almost always vote for their party’s candidat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Delegate Votes Divided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34AC-C0FE-4741-BE7B-3F6EA68DFA9A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64A1-9DBF-42C8-BEE4-3D140B2C103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92280" y="1980720"/>
            <a:ext cx="7837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Each state determines the manner of sel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All but two states use a winner-take-all delegates statewide election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brask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a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veryone el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f Candidate A gets the most votes in a state, Candidate A gets the all of the delegat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Voters and Electors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0D17-0DDC-4DBB-8A76-E14918E80BC9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1DC3-4ECC-4A19-B323-7C91BB44F0F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92280" y="1828800"/>
            <a:ext cx="775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refore,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n Ohioan who votes for Obama is really voting for a elector pledged to cast the state’s electoral votes for Obama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n 2000, Bush won all of Florida’s 25 electoral votes because the final official vote tally showed him ahead of Gore by about 600 vot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orter, Daryl</dc:creator>
  <dc:description/>
  <dc:language>en-US</dc:language>
  <cp:lastModifiedBy>Josh Zimmerman</cp:lastModifiedBy>
  <dcterms:modified xsi:type="dcterms:W3CDTF">2015-02-11T13:46:50Z</dcterms:modified>
  <cp:revision>72</cp:revision>
  <dc:subject/>
  <dc:title>PowerPoint Presentation</dc:title>
</cp:coreProperties>
</file>