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A7DA-A5A4-44BD-877A-B134B99E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9AE3-5EB2-4C27-BE62-4DA6960A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0A51-F1B0-4CAC-B3E8-23DFFABC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06E6-5EC5-48C1-9F8D-BB9897A4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3DC5-62DA-485B-908A-1CA49270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521F-52B9-486B-ACC9-1F3356DF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84D9-FE07-433C-A368-78DE7BCA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89BE-7295-44ED-8966-B0A85EF7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4CC6-4CB0-4FD8-8CCB-0464AE20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3201-4D28-4A5A-A1A9-B11CF9DB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745B-CEC9-49C5-A391-3FDA2039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C46A-08D2-4AD2-812E-22318889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850E-5C4F-4837-8BF9-AA0225BE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4C37-2B8E-40E1-8B08-CAF659B9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1501-2EE6-4AA3-B132-8DBFB05F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237C-80F8-4826-B392-4DD87A45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B659-BFBC-4320-9FDB-DC276C1E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CFE53-6DB0-4005-BCE1-2DB98D59B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FE632-B621-4C4C-8C62-440E0720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37864-B667-4B39-A2DC-F364B5C5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99C24-A15A-406B-ABE5-D41E5EA5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15897-C448-49CF-8490-37E40BAF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634E-90BC-4AF4-961C-8BD118DB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E45EC-F8CE-4F80-B2F5-27821124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B4495-D047-4351-A0BB-BF3C9729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9A0BB-94AC-43E1-8920-9B152367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D2244-EEFD-4D4C-8AE5-201B4D6D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26557-A15C-49FA-AA30-3B3180E8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68670-0756-4141-BFE9-950F1ABC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0B029-C95F-4FA9-AA34-6046E306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57B4F-5CDA-4F7A-BE14-0BF4F47A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12728-4D59-4EA0-A769-B0551FB6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78E35-F476-4DE5-BF7E-A28EC305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F547-9E0D-456D-A1B3-A485C045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D9D33-AE64-4995-9D8B-3FDBF13B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EA2B0-5723-4E0C-AA01-823EF3F9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DD386-4E1C-447F-8AFA-92FD0623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80BFE-7E8C-42FA-BFD4-41752A25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0A89F-8D14-44C1-8884-A2313786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E8F21-5ED7-4E1F-BEDE-9F02BA23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F7F51-E980-4CDA-8733-E854514D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F96C9-2066-41BA-8057-20335C43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1526D-4E6F-43D9-BA25-D9DBA166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B3E7C-ED48-4B5B-9E16-49196BF4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C269-EC77-42A3-BCCE-38C06950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9225C-D7F2-4AF4-B4A5-82CE9B5C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0BE12-5A1D-4488-9E31-8C967F3F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5D468-AD2C-4AAF-A800-174E8A3D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9BFA8-2388-4A97-93C7-C59148AD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7FF44-06EA-44EE-AF3C-F5733A89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7F87A-4ED3-4639-9FA6-6C27F8D6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B69A5-E2DB-490B-8BC0-0CB65C71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AD0AE-30F0-41AA-88AE-CB1DD205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947B5-94C6-4694-ABDD-5FE34C74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7B901-D011-4EB0-937E-283032A7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1CA1-09A9-4F56-9B76-4564C8B7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7FDAC-41FD-4839-829C-DD7715CA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CA10-2151-468C-BC18-2D682507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16A5-14E5-4A66-925F-41023305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7B81-F5E1-4B8E-B70B-5C5B5DE5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5185-783F-4D54-8FC8-A91F2CE5FAD9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90C5-0CA1-482A-9736-CF3E5A231A3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A782-3866-41AE-8F4C-5B37770ED6A2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7FD1-7E44-4AAF-BEDA-C4779C1A24B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DA8A-9998-4EE2-9832-0AE125C406EE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3004-C26A-4B39-9B57-ACC9217EEB0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4B6E-15F5-4DD1-80F6-5371064FB17F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49AF-747F-4256-9F9C-AAF6E3DED46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DA6C-3B54-45FF-A555-B333A0AAAB12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A7BF-F4AB-4B6B-BF3E-4929B7FBE44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2D1E-CCAD-43E8-A4E4-4798CFFCABA7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34F5-A5EB-4FB5-8D2B-2A65E4C65B6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15235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Garamond"/>
              </a:rPr>
              <a:t>The Electoral College</a:t>
            </a:r>
            <a:endParaRPr b="0" lang="en-US" sz="8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9680" y="822240"/>
            <a:ext cx="7916760" cy="10065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Garamond"/>
              </a:rPr>
              <a:t>The Real Election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840F-D21E-460E-B4A9-92CC4DFD67A1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0B7B-2A15-4095-A76E-15AEA29AB21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91920" y="2378160"/>
            <a:ext cx="791676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 December of election yea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electors gather in their respective state capitols to cast ballots for president and vice president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 Januar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gress comes into ses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y open the ballots received from each sta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y announce the official outcom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464"/>
                </a:solidFill>
                <a:latin typeface="Garamond"/>
              </a:rPr>
              <a:t>What if no one receives a majority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F23E-2553-40E8-8B48-DFB590F00B91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9DBB-E0CF-4B2B-BDAD-4C498DE2291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o win, a candidate needs a majority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70 electoral votes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f no candidate has a majority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House of Representatives selects the president from among the three presidential candidates with the most electoral votes. 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f this happens, each state has one vote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appened only once!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80000"/>
              </a:lnSpc>
              <a:spcBef>
                <a:spcPts val="3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1824 Congress chose John Quincy Adams over Andrew Jackson and Henry Clay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Senate selects the vice president from the top two vice-presidential candidat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464"/>
                </a:solidFill>
                <a:latin typeface="Garamond"/>
              </a:rPr>
              <a:t>Popular Vote v. the Electoral Vote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6A94-AAA4-46C0-B2B9-D52AC5ECEAD9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606D-6557-4830-BC1E-8824BDD571F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2860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 a close race, the popular vote winner may not win the electoral college.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e candidate may win states by lopsided margins while the other wins states by narrow margins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lectoral vote winners who lost the popular vot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ush over Gore in 2000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enjamin Harrison over Grover Cleveland in 1888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utherford B. Hayes over Samuel Tilden in 1876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464"/>
                </a:solidFill>
                <a:latin typeface="Garamond"/>
              </a:rPr>
              <a:t>Criticisms of the Electoral College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DF3F-A039-423E-8AB3-4271B860C962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504B-C103-4C3E-8918-DAEDAAE6861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14520" y="1676520"/>
            <a:ext cx="7837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popular vote winner may lose the presidenc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Electors may vote for persons other than their party’s presidential and vice presidential candidat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If no candidate receives a majority, Congress will pick the president and vice presid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Proposals for Reform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0353-F477-4044-8F2A-5077ACB0B831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ACC9-7118-434C-B97E-78A608CFA9A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9120" y="1752480"/>
            <a:ext cx="8534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Eliminate electors but still count electoral vot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Choose the president by direct popular elect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Review Question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2A65-51FF-43A1-82DB-77EA4D788637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C8ED-5D21-4D6F-AA0C-1AE80B95569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North Carolina has 13 U.S. representatives.  How many electoral votes does the state have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Review Question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A0D9-C52D-4F75-B63C-0F885F961DE3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4EBD-5908-409C-9D34-EA6AD4B05FD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92280" y="2695680"/>
            <a:ext cx="768168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Who are elector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Answer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4082-22EE-4B3E-B327-0AB6AAB93C47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F77D-D2CD-4C0F-8DC2-440D1FB50C0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y are individuals selected in each state to officially cast that state’s electoral votes.  Electors are typically long-time party activists who are selected by their state party organization as a reward for their loyalty to the party.  In most states, electors are officially pledged to support their party’s presidential and vice presidential candidat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Review Question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EBD0-9182-4D7F-AA9C-C2D8339E6973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048D-D729-475F-9A8E-BCAD5875180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Does it matter whether a candidate carries a state by a few votes or a lot of vote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Answer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B4CF-4C47-4C2E-8C2C-80D1AAB9EDEC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5403-C2C7-42D9-AF96-22134983C6B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No.  A candidate receives all of a state’s electoral votes whether the candidate carries the state by one vote or a million votes.  In every state except Nebraska and Maine, the race is winner take al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True or False?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AC53-B633-4E9E-BEBE-07F87908EAC2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C5DC-6B8D-417B-B3C2-8BE6E46528C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769680" y="2774520"/>
            <a:ext cx="7916760" cy="29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candidate with the most votes is elected presid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Answer: Not necessarily.  Ask Al Gor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Review Question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959D-DE90-44DE-A5F7-AE3EBF1F1856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8361-02EB-4D96-8249-F6825DF3DB5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What is the small state bia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Answer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026F-14CE-4E4D-A8C1-94F46C505FCB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1EC0-784A-45F8-A2E8-01F7D29B519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electoral college has a small state bias because every state gets at least three electoral votes regardless of its population.  As a result, small states such as Alaska, Wyoming, and South Dakota enjoy a greater percentage of electoral votes than they would merit based strictly on populat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The 2000 Election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DED9-F44D-4883-BA6C-937F0C7A26C2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3F4E-EB90-42F6-B004-A4B6CC14138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Popular Vo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l Gore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0,996,039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eorge W. Bush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0,456,141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Electoral Vo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eorge W. Bush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71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l Gore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67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837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Historical Background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D129-F73C-477F-B4D0-A983D26E3F38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C901-F3A6-462C-B671-C1785ABB3E9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91920" y="2536560"/>
            <a:ext cx="7916760" cy="26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framers of the Constitution disagreed on how to elect a presid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ngressional selection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rect popular election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electoral college was a compromi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mbining features of both approach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464"/>
                </a:solidFill>
                <a:latin typeface="Garamond"/>
              </a:rPr>
              <a:t>The Electoral College and Federalism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FC1C-911B-4F77-B103-D69649DC6123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189C-5C74-40B8-89EB-07BFEAC084D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electoral college also reflects the federal nature of the Constitu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sures that the states have a role in selecting the presiden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0" lang="en-US" sz="4900" spc="-1" strike="noStrike">
                <a:solidFill>
                  <a:srgbClr val="696464"/>
                </a:solidFill>
                <a:latin typeface="Garamond"/>
              </a:rPr>
              <a:t>State Electoral Votes</a:t>
            </a:r>
            <a:endParaRPr b="0" lang="en-US" sz="4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2CC2-F816-4FBF-B3E4-F8FC967A94E4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A305-5213-4A2B-A636-1F646F963A4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Each state is entitled to as many electoral votes as the sum of its represent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U.S. House of Representativ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U.S. House of Senat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Ohio: 18 House members plus 2 senators = 20 electoral vot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Total: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435 House members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100 senators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3 electors for the District of Columbia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= 538 electoral vot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38080" y="8380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1143000" y="2895480"/>
            <a:ext cx="7696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Garamond"/>
              </a:rPr>
              <a:t>Who are the Electors?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44B3-851B-4605-8F71-AF383BE6EA42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66AB-015C-4150-ACF5-B4F3CBFEC0C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0880" y="19047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Individuals selected in each state to officially cast that state’s electoral vot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Ohio selects 20 electors to cast the state’s 20 electoral vot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ramers anticipated that electors would be state leaders who would exercise good judgment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Today, party leaders select electors who are typically long-time party activist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Electors almost always vote for their party’s candidat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Delegate Votes Divided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BFB1-BE3B-4266-ADC8-90638C9A92ED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CF76-270B-41CA-9D51-59DE2FA8B19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92280" y="1980720"/>
            <a:ext cx="7837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Each state determines the manner of sele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All but two states use a winner-take-all delegates statewide election syst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braska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a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veryone el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80840" indent="-21708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f Candidate A gets the most votes in a state, Candidate A gets the all of the delegat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Voters and Electors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A019-04C7-46AC-AEE0-A9E96B4CC977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9FA3-6348-43E3-A7D0-FE179000D0D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92280" y="1828800"/>
            <a:ext cx="775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refore,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n Ohioan who votes for Obama is really voting for a elector pledged to cast the state’s electoral votes for Obama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n 2000, Bush won all of Florida’s 25 electoral votes because the final official vote tally showed him ahead of Gore by about 600 vot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orter, Daryl</dc:creator>
  <dc:description/>
  <dc:language>en-US</dc:language>
  <cp:lastModifiedBy>Josh Zimmerman</cp:lastModifiedBy>
  <dcterms:modified xsi:type="dcterms:W3CDTF">2015-02-11T13:46:50Z</dcterms:modified>
  <cp:revision>72</cp:revision>
  <dc:subject/>
  <dc:title>PowerPoint Presentation</dc:title>
</cp:coreProperties>
</file>