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113E-5877-4E6D-BE0C-5AABC222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52CF-EDB1-4ABE-8611-AC36EF23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AA27-38CA-4C54-91C5-27CE1A80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C906-0C16-416B-B553-E62A9069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FDEA-8AD1-4484-B260-83CEDD32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9B22-FCA5-4B03-B802-D3DF048E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C0C7-9072-4015-87E3-456CD201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ED30-9939-4E12-8F69-F81A919A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7A42-B520-4568-8EE3-994B0644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CC2D-E491-4993-ADBF-D56FB0BB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C399-7573-4930-9CB0-A9A06B9A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344E-4CB1-418D-9526-9860C6D9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A97C-9424-4DA8-9060-9188EF3B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A2C1-5B16-44B9-ADF7-1699EAE0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9B4E-4017-44E1-A024-8B96E7C8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82D4-B529-4F7C-BE0B-F4FD193F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ED4E-A22A-456E-9EC8-F1A7BF63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E2787-72AA-4E90-BD21-BA2E156F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7180D-42AF-4470-B0E2-078F00B8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62C48-2FED-4F91-869F-3ACC20C0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227B7-A5CD-4E8E-B6EF-48831DC2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0B170-1A81-402A-A4A2-1DE7CC2D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8DCA-6B5F-45A0-8551-AE1A39AC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32BB1-9D9E-4496-9620-067F1654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AEDC7-96CA-4F65-898E-EAFB528B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A440B-DF72-4AD2-A190-45DC5425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4F8AE-5CA2-4E7F-9500-C2659652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26607-1D3F-48A8-A49F-DC5821C2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954F1-50B4-4419-8C47-F4F7D994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B3CCF-69FD-49C5-BF9E-292A7DB0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06364-6575-4383-A284-C7BD90C5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4B4ED-D312-44BF-833A-5E6318D5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95AA7-5B74-495D-A5D9-AC78B50C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9141-E4D8-486B-8523-BB4A8608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6E4E9-CC2D-4ED9-8146-B56DE402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830D7-33AD-4874-9C0D-B3237F70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0767A-1D78-4174-9A83-FC072E83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25CC3-6A07-4121-9614-3F04B2A3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A99E1-2F64-49CF-9578-4425D170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AEB9E-01FB-4EAB-93F1-EFB72830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535A9-EE1E-4DEB-B9BA-592E61C1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060C3-A91B-4EE5-9461-F8D8138F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B50C8-E134-4BF2-A63D-6F6ED405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FA443-75C7-4DA2-A345-670FE927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4C28-25F9-462E-9AA5-428EFEF3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BCB14-660B-4041-86C3-0A02CF49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099B1-E234-4EF9-AC0F-55A3BAD5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2A85A-D62B-49F0-823A-7D7E9109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A5792-376B-4719-8B5C-F9B95257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8853A-E868-4BD8-84CF-15D7DDC1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33780-4673-4E4D-BF7B-C5A4CA24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63AD9-E78E-404C-AB73-C867DDDA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EDA06-79C5-411F-B298-6DB0E8AE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F3C72-F297-41CE-BAA6-57B8C2D5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1276D-A047-4DF5-8A8D-C34E3453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5596-E50B-4E6B-9992-53D9CE3D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B109C-02AC-449C-9FB0-6B63F7B30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6754-796A-4E2C-AF43-7B103A84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5D74-929F-4912-9E66-ED6D774A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CF1A-7430-4B0A-AD96-C83D3888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4B56-0F84-4B6B-A29D-9FB2896C5D8F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BBEB-F036-443F-AC00-9351B51AC3C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99A2-02D7-467D-A03B-753D1498A5E9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C943-F1D8-4C43-8130-78ACB8AE035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D452-A807-41B3-AA52-BBC8CA677CD3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17CF-EA23-4339-975E-FC10AAFCCA3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B1A6-D51E-4B56-A0EB-F8E107288FD1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CC04-DE14-421C-814C-A7571DFFB46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3584-AC6F-4E2B-98E3-FAF62E9DB551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081F-CB55-4FF4-BD6F-2B4A9583B3B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DFCF-0D69-46C2-AC57-8961C9AB80CA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3B5C-9466-4C00-A371-5C60040BB40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15235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Garamond"/>
              </a:rPr>
              <a:t>The Electoral College</a:t>
            </a:r>
            <a:endParaRPr b="0" lang="en-US" sz="8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9680" y="822240"/>
            <a:ext cx="7916760" cy="10065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Garamond"/>
              </a:rPr>
              <a:t>The Real Election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8071-1807-4A92-BE3E-145135AD11A1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C02D-124A-4C9E-8CB8-0B984AB6D48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91920" y="2378160"/>
            <a:ext cx="791676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 December of election yea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electors gather in their respective state capitols to cast ballots for president and vice president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 Januar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gress comes into ses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y open the ballots received from each sta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y announce the official outcom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464"/>
                </a:solidFill>
                <a:latin typeface="Garamond"/>
              </a:rPr>
              <a:t>What if no one receives a majority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FDD7-7A1C-4286-834B-00D941A2158A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5FF8-1D2F-4375-B178-1F0691A0F62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o win, a candidate needs a majority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70 electoral votes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f no candidate has a majority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House of Representatives selects the president from among the three presidential candidates with the most electoral votes. 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f this happens, each state has one vote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appened only once!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80000"/>
              </a:lnSpc>
              <a:spcBef>
                <a:spcPts val="3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1824 Congress chose John Quincy Adams over Andrew Jackson and Henry Clay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Senate selects the vice president from the top two vice-presidential candidat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464"/>
                </a:solidFill>
                <a:latin typeface="Garamond"/>
              </a:rPr>
              <a:t>Popular Vote v. the Electoral Vote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304C-0D11-4363-8247-AC08CF6628EA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F788-E9A4-427B-8DEC-573B5E39FD1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2860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 a close race, the popular vote winner may not win the electoral college.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e candidate may win states by lopsided margins while the other wins states by narrow margins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lectoral vote winners who lost the popular vot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ush over Gore in 2000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enjamin Harrison over Grover Cleveland in 1888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utherford B. Hayes over Samuel Tilden in 1876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464"/>
                </a:solidFill>
                <a:latin typeface="Garamond"/>
              </a:rPr>
              <a:t>Criticisms of the Electoral College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CB8A-9221-4EAE-8CF7-A4B9C27FDBFF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0209-D729-4D34-AD52-B6325685FE1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14520" y="1676520"/>
            <a:ext cx="7837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popular vote winner may lose the presidenc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Electors may vote for persons other than their party’s presidential and vice presidential candidat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If no candidate receives a majority, Congress will pick the president and vice presid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Proposals for Reform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DB9F-775F-4619-9297-13C6C059CCAF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B918-6C8B-428F-80E1-4B815EA9713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9120" y="1752480"/>
            <a:ext cx="8534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Eliminate electors but still count electoral vot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Choose the president by direct popular elect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Review Question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B8A9-DAA4-4275-8A87-92789644AB5D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8330-9A8D-4D43-897E-A9774F8431A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North Carolina has 13 U.S. representatives.  How many electoral votes does the state have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Review Question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EADF-5354-4607-9C97-FBFDEA470498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0D4F-600A-4BA4-A906-5E89E3AFB64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92280" y="2695680"/>
            <a:ext cx="768168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Who are elector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Answer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41D3-0EAA-46E1-946E-85FCA4FB8D30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8F8F-D101-46E2-BBEC-C59CEC02574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y are individuals selected in each state to officially cast that state’s electoral votes.  Electors are typically long-time party activists who are selected by their state party organization as a reward for their loyalty to the party.  In most states, electors are officially pledged to support their party’s presidential and vice presidential candidat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Review Question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6145-BF18-45A0-B56A-7BB6149F2C6A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88DC-11CF-4636-8C9F-80120D4DA50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Does it matter whether a candidate carries a state by a few votes or a lot of vote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Answer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6DCD-742D-47B8-A297-A44D34AA11CA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4041-6643-4E25-8E57-B3ED8482086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No.  A candidate receives all of a state’s electoral votes whether the candidate carries the state by one vote or a million votes.  In every state except Nebraska and Maine, the race is winner take al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True or False?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E346-4D08-4AD7-8BF4-F36817A3972C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E2D2-5507-4A64-AA50-78D185238BB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769680" y="2774520"/>
            <a:ext cx="7916760" cy="29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candidate with the most votes is elected presid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Answer: Not necessarily.  Ask Al Gor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Review Question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624D-CFB8-4A19-825A-27C5E45B429A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5457-E2AD-4ACD-863A-D7B1060A553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What is the small state bia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Answer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554F-55DB-4E86-9F8D-00FFEF14FFB9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BB12-B2B7-4EFA-9047-14469ACD55E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electoral college has a small state bias because every state gets at least three electoral votes regardless of its population.  As a result, small states such as Alaska, Wyoming, and South Dakota enjoy a greater percentage of electoral votes than they would merit based strictly on populat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The 2000 Election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9EBC-28EF-4284-A10C-2AFB85A93126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0AFB-62D1-4787-BEF1-93384D50B22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Popular Vo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l Gore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0,996,039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eorge W. Bush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0,456,141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Electoral Vo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eorge W. Bush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71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l Gore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67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837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Historical Background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CF22-6754-41C6-BBAE-7B05D3B9997F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0575-8603-4CB8-B565-7284C943FC1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91920" y="2536560"/>
            <a:ext cx="7916760" cy="26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framers of the Constitution disagreed on how to elect a presid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ngressional selection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rect popular election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electoral college was a compromi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mbining features of both approach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464"/>
                </a:solidFill>
                <a:latin typeface="Garamond"/>
              </a:rPr>
              <a:t>The Electoral College and Federalism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456B-D2E0-416B-9D30-AA1BE72A6DF5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4768-9837-4F18-B888-3C70CD8DBA7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electoral college also reflects the federal nature of the Constitu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sures that the states have a role in selecting the presiden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0" lang="en-US" sz="4900" spc="-1" strike="noStrike">
                <a:solidFill>
                  <a:srgbClr val="696464"/>
                </a:solidFill>
                <a:latin typeface="Garamond"/>
              </a:rPr>
              <a:t>State Electoral Votes</a:t>
            </a:r>
            <a:endParaRPr b="0" lang="en-US" sz="4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5E7F-626A-4F88-81F4-3D2436006866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28CB-7F3B-4D09-BBBD-7012BA1146F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Each state is entitled to as many electoral votes as the sum of its represent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U.S. House of Representativ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U.S. House of Senat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Ohio: 18 House members plus 2 senators = 20 electoral vot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Total: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435 House members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100 senators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3 electors for the District of Columbia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= 538 electoral vot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38080" y="8380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1143000" y="2895480"/>
            <a:ext cx="7696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Garamond"/>
              </a:rPr>
              <a:t>Who are the Electors?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2FC7-0DD3-46E1-B113-123F4B0DA9B4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356F-9ADF-4438-8C19-1D744D53E91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0880" y="19047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Individuals selected in each state to officially cast that state’s electoral vot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Ohio selects 20 electors to cast the state’s 20 electoral vot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ramers anticipated that electors would be state leaders who would exercise good judgment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Today, party leaders select electors who are typically long-time party activist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Electors almost always vote for their party’s candidat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Delegate Votes Divided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0617-4480-4587-8065-D40853C3A939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EC73-C87A-4448-B61B-0B7D525015B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92280" y="1980720"/>
            <a:ext cx="7837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Each state determines the manner of sele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All but two states use a winner-take-all delegates statewide election syst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braska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a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veryone el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80840" indent="-21708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f Candidate A gets the most votes in a state, Candidate A gets the all of the delegat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Voters and Electors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22EB-09B5-40AD-A061-D1BA00703777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1F2A-5399-42D2-906A-45F530620FE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92280" y="1828800"/>
            <a:ext cx="775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refore,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n Ohioan who votes for Obama is really voting for a elector pledged to cast the state’s electoral votes for Obama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n 2000, Bush won all of Florida’s 25 electoral votes because the final official vote tally showed him ahead of Gore by about 600 vot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orter, Daryl</dc:creator>
  <dc:description/>
  <dc:language>en-US</dc:language>
  <cp:lastModifiedBy>Josh Zimmerman</cp:lastModifiedBy>
  <dcterms:modified xsi:type="dcterms:W3CDTF">2015-02-11T13:46:50Z</dcterms:modified>
  <cp:revision>72</cp:revision>
  <dc:subject/>
  <dc:title>PowerPoint Presentation</dc:title>
</cp:coreProperties>
</file>