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DF67-B359-4D73-AF7C-C094C094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278C-73F8-4AA7-8246-BB6F15E6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13C-A9F1-4DA2-9E9A-193E50CE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F324-C33F-41BD-8EDA-FD6775B4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F20F-1244-4341-B02F-EACE169F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06B6-7F9C-414E-8D63-7049F475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E687-A501-4785-A71E-4A5BDABE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D8CF-538C-4C94-A5E3-4DACE039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4332-CC19-4079-877D-0663B76E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CFC4-E8D1-45B7-B7DA-E0A4CE19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DA37-E541-46FB-9818-A16FDB48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8314-E32C-4731-AF5F-CF55A6E1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B4BC-0AC5-42C7-B898-7EA7B76D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C229-A2D0-417C-9456-9B4135DD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CE51-EBB3-425D-9CBF-7415BECD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890B-4790-4381-BBC8-D56C50DB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09E5-4823-4230-960B-1FB5CCC7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16653-0E84-45BF-A16B-FF5F914B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D87EF-46B6-40FF-96CA-F17EA9D4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639BD-56CC-4F2F-9B33-8808A3B3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2ED9F-D198-4727-8724-3D04E34C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49471-2144-47BB-A778-A167C0C8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AEF4-13F8-4147-B286-E15819D7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13786-E3BC-48E8-B64E-67488344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95098-F996-41CD-88B5-68EC2D15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E6D59-2A46-4F44-BCEE-B6C7CFE7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BCDD3-DA77-4180-ABA8-BA5702A8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B34B5-8CBD-4E14-83E8-5176511B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F47ED-8BD2-4CF2-8589-190FB089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F3374-B960-4E28-9672-73B7FB64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D17C5-DAA3-4F33-9C95-8DA5C47D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658EC-4940-4EA7-9EBC-D92D9F2E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7BE31-CDF6-4B11-8906-D2DABC5F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5EDB-6C28-4E6B-A791-AF4C3AD0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71CF8-283D-4D91-A72F-09A164FF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5557B-D741-43D8-803E-704F1604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D77B0-7EE5-422F-B7FB-7630D2D8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D440E-24CD-41DB-B688-36D9BE28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FFC50-68A3-49A8-819B-764EB37A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527C5-A70A-4EFB-A7F1-A68268B5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F2BB2-263D-45F9-A90F-B64CF4DE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99CA9-3EDB-4A35-BB5A-BD672D88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36DB7-2B33-4D52-8B88-D89E522D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E59AD-365C-414F-92F5-E0FC61A6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0A7C-D863-4CA7-8605-8FDDB89F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ED84C-C691-4013-9F2E-970C9300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17844-98C3-465B-9AD3-8E95CF90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F921B-2821-4A4E-8174-667235E6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44FBB-5F8E-4243-94FB-9F760D70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8B92B-4DF9-48C1-B5D7-773F5009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8752C-E1D9-4ACD-B0CB-359E6B4F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D8E73-69A4-4EE2-B656-F1D6175E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B74B8-ACAA-4762-9F01-7C211C58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D8B66-EFF7-4B21-84A6-6FD70AE1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31BD5-D06D-44B7-ADB9-51787D68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DB1B-BAAF-4CEF-8E9F-4632D775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3F820-024D-435F-851C-12EFA865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22F-D577-4F16-88DF-D1115ABE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C090-6841-493C-B793-291C275B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4CAA-4B82-4AAA-9E02-828F7311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1826-3D19-4597-B00B-9150803115FE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DC5D-2EB9-4362-B8DA-1F4766ECACE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F36F-6CE0-4A12-AA56-D67C72077D76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2A38-E976-45DA-B0C0-DDFEBC82330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1A69-9ED6-4D93-8CCD-A1A8277B761D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1574-37AC-42A4-BE91-386F9C6EE5D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2881-395A-490D-9244-4B9D226A72A6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D871-DC39-4F14-9E52-6DD32B4D2DC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4A12-4A23-40CF-9E56-0A0FD8B52B50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9EC1-F0C7-4AE3-BA92-72BCFDE049C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9041-DAAE-45E4-AEAB-A0CB2EBC0BF4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F0E6-5AAD-4510-BEEE-5B97F5E844E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15235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Garamond"/>
              </a:rPr>
              <a:t>The Electoral College</a:t>
            </a:r>
            <a:endParaRPr b="0" lang="en-US" sz="8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9680" y="822240"/>
            <a:ext cx="7916760" cy="1006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Garamond"/>
              </a:rPr>
              <a:t>The Real Election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ED4A-78D2-451D-BB24-7CACDF6E860F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13D4-7C49-4022-BF19-7B7FC13218A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91920" y="2378160"/>
            <a:ext cx="791676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 December of election yea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electors gather in their respective state capitols to cast ballots for president and vice president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 Januar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gress comes into se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y open the ballots received from each sta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y announce the official outcom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464"/>
                </a:solidFill>
                <a:latin typeface="Garamond"/>
              </a:rPr>
              <a:t>What if no one receives a majority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6121-2ABD-4E49-83A9-5A14FA3D09BF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CA6A-C7B5-4BE9-B02E-3BE7A8844E5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 win, a candidate needs a majority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70 electoral votes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f no candidate has a majority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House of Representatives selects the president from among the three presidential candidates with the most electoral votes. 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f this happens, each state has one vote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appened only once!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80000"/>
              </a:lnSpc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1824 Congress chose John Quincy Adams over Andrew Jackson and Henry Clay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Senate selects the vice president from the top two vice-presidential candidat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464"/>
                </a:solidFill>
                <a:latin typeface="Garamond"/>
              </a:rPr>
              <a:t>Popular Vote v. the Electoral Vote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476C-3987-4536-B370-B3679033AB24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C008-9DB8-4045-A391-7EB845FB897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 a close race, the popular vote winner may not win the electoral college.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e candidate may win states by lopsided margins while the other wins states by narrow margins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lectoral vote winners who lost the popular vot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ush over Gore in 2000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enjamin Harrison over Grover Cleveland in 1888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utherford B. Hayes over Samuel Tilden in 1876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464"/>
                </a:solidFill>
                <a:latin typeface="Garamond"/>
              </a:rPr>
              <a:t>Criticisms of the Electoral College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90F9-DBD3-4931-953B-3D5B11DDAAD3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40D9-227F-4E37-B2BE-D33EAC198A8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14520" y="1676520"/>
            <a:ext cx="7837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popular vote winner may lose the presidenc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Electors may vote for persons other than their party’s presidential and vice presidential candidat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If no candidate receives a majority, Congress will pick the president and vice presid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Proposals for Reform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3432-4E84-4952-9382-838C3F1244B9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0B63-8939-4FF7-8BB0-A30A63679D0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9120" y="175248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Eliminate electors but still count electoral vot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Choose the president by direct popular elect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Review Question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D861-511D-4B65-A538-0D0C663E9604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AABB-7993-4A28-A3A1-E6912AAAC07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North Carolina has 13 U.S. representatives.  How many electoral votes does the state have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Review Question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72C8-4D6F-451D-8931-E777346D487C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8A10-D66C-49C0-A466-A92F0ECA599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92280" y="2695680"/>
            <a:ext cx="768168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Who are elector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Answer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138B-7B7D-42F3-9D44-6C3A156ECB2C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0EEF-7175-4426-9DFF-E6BE18B4F4D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y are individuals selected in each state to officially cast that state’s electoral votes.  Electors are typically long-time party activists who are selected by their state party organization as a reward for their loyalty to the party.  In most states, electors are officially pledged to support their party’s presidential and vice presidential candidat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Review Question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1F73-2907-43C5-9B85-D7A6149189A3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2314-3BC4-48FE-8A83-9FF868F1795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Does it matter whether a candidate carries a state by a few votes or a lot of vote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Answer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F783-F9D9-49AF-9546-2E52F86CEA6E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6557-19DD-4455-8519-6C69E2ACF83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No.  A candidate receives all of a state’s electoral votes whether the candidate carries the state by one vote or a million votes.  In every state except Nebraska and Maine, the race is winner take al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True or False?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FED7-193A-4296-9411-6203C9ED4759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B973-5122-4E9E-A42B-0A92C1D5058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769680" y="2774520"/>
            <a:ext cx="7916760" cy="29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candidate with the most votes is elected presid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Answer: Not necessarily.  Ask Al Gor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Review Question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75D6-1B86-4F8F-9E1C-14F2D2D7750B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5E96-8729-45A5-9B70-A9D377BDA44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What is the small state bia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Answer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9A9D-1AE8-43A4-A125-7C8420EB69BA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A91E-8F2E-4627-B6AB-CC6CE689CD1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electoral college has a small state bias because every state gets at least three electoral votes regardless of its population.  As a result, small states such as Alaska, Wyoming, and South Dakota enjoy a greater percentage of electoral votes than they would merit based strictly on populat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The 2000 Election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F478-12B3-4540-B32D-A7288FEF1EF6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10E0-68EB-4A9C-9808-32C50AA4B72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Popular Vo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l Gor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0,996,039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eorge W. Bush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0,456,141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Electoral Vo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eorge W. Bush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71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l Gor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67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Historical Background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2C8D-66F1-43A7-8FD1-29B0384785E3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5D9A-5D38-4DA0-8D65-F273EE8405D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91920" y="2536560"/>
            <a:ext cx="7916760" cy="26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framers of the Constitution disagreed on how to elect a presid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ngressional selection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rect popular electio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electoral college was a compromi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mbining features of both approach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464"/>
                </a:solidFill>
                <a:latin typeface="Garamond"/>
              </a:rPr>
              <a:t>The Electoral College and Federalism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E8DB-0CF2-453A-8892-77E82E2ACE82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1973-347D-4ED7-9043-B66394AED0F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electoral college also reflects the federal nature of the Constitu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sures that the states have a role in selecting the presiden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0" lang="en-US" sz="4900" spc="-1" strike="noStrike">
                <a:solidFill>
                  <a:srgbClr val="696464"/>
                </a:solidFill>
                <a:latin typeface="Garamond"/>
              </a:rPr>
              <a:t>State Electoral Votes</a:t>
            </a:r>
            <a:endParaRPr b="0" lang="en-US" sz="4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5F45-24DE-411E-A683-AB4738DBAC2A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4706-7F34-46CB-ADC7-A9BE0BF1288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Each state is entitled to as many electoral votes as the sum of its represent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U.S. House of Representativ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U.S. House of Senat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Ohio: 18 House members plus 2 senators = 20 electoral vot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Total: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435 House members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100 senators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3 electors for the District of Columbia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= 538 electoral vot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38080" y="8380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143000" y="2895480"/>
            <a:ext cx="7696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Garamond"/>
              </a:rPr>
              <a:t>Who are the Electors?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F82A-5EA5-4745-9363-B092F49A37AD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8831-CE00-4604-A2D9-F36C4F0D5DF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0880" y="19047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Individuals selected in each state to officially cast that state’s electoral vot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Ohio selects 20 electors to cast the state’s 20 electoral vot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ramers anticipated that electors would be state leaders who would exercise good judgment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Today, party leaders select electors who are typically long-time party activist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Electors almost always vote for their party’s candidat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Delegate Votes Divided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6DC2-D780-41B6-9D7E-C191961B17BE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1AA2-B248-4B5A-AB56-769A8AA85B4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92280" y="1980720"/>
            <a:ext cx="7837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Each state determines the manner of sele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All but two states use a winner-take-all delegates statewide election syst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brask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a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veryone el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f Candidate A gets the most votes in a state, Candidate A gets the all of the delegat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Garamond"/>
              </a:rPr>
              <a:t>Voters and Electors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8173-08EC-4D97-BBEA-C319D71EE2F3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Political Science Module Developed by P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F2D6-A918-4031-A638-72EC7B19B54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92280" y="1828800"/>
            <a:ext cx="775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refore,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n Ohioan who votes for Obama is really voting for a elector pledged to cast the state’s electoral votes for Obama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n 2000, Bush won all of Florida’s 25 electoral votes because the final official vote tally showed him ahead of Gore by about 600 vot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orter, Daryl</dc:creator>
  <dc:description/>
  <dc:language>en-US</dc:language>
  <cp:lastModifiedBy>Josh Zimmerman</cp:lastModifiedBy>
  <dcterms:modified xsi:type="dcterms:W3CDTF">2015-02-11T13:46:50Z</dcterms:modified>
  <cp:revision>72</cp:revision>
  <dc:subject/>
  <dc:title>PowerPoint Presentation</dc:title>
</cp:coreProperties>
</file>