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9C34-A2FB-4C18-911C-D06C7474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5A33-B9C4-4CBF-A4D0-654C8915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2B53-7ED7-4E0A-9AC2-7256B50F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F07C-105B-41C1-8EF4-A7DECCC5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5B8C-3F22-4ABA-BC31-DBA42840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E1BF-9EE0-4866-91BB-CAF1179B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19AD-643D-4C1D-AC7B-8E03B917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8EAF-9FB1-4881-B53A-88686827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9E0E-8D53-4CCB-9358-D2CF9AE8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AE85-87E0-44BF-B7E0-72B5F9E1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BDF8-60D4-4613-B6A6-1D301A4D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22D-EA62-4D45-A5EC-65DF2A8C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D683-EA82-4683-8B37-44963014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5AAE-D821-4733-8260-BA3473AB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FE81-A70E-405E-8F01-4D95F79A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C97E-3D7F-4DE7-B885-2D4074FE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C215-BF1A-4EEC-899C-19FA5F0B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860A2-384A-4142-811B-BC845B7C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79BD1-BDEC-4E0F-87A8-348C834E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89A06-66F5-4E91-97C5-91660225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1500A-08A4-4984-BC56-A3786045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225DD-D57C-4EC8-B04B-EF90A820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99EE-3E40-436A-BF2B-E75B0909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C3FA9-5DA5-444C-B2E0-28A0E234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8DA9A-849B-4592-B983-6E99979D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8A65F-FAE2-4750-A378-9FAEE021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F3800-5D10-4197-B62D-7AFC5C7F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7271E-21F9-45E4-A477-C8CB100B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3798C-B45D-4307-B8C4-32F3396A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C0F98-1FBF-457A-A490-CA7D3536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C5080-92AF-4860-A931-1384A909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EBCF7-26DD-4C50-BFE4-2C8FEA06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7BF5F-3877-453E-83B7-A7AA3BB2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EBC0-5A63-41A6-B004-2AD926C1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95AD5-B771-4C10-A2C6-5DDEAC6E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B5F0D-383D-43EA-9566-FE8E67D2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156D8-603A-499A-A573-5ABB585A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C0B28-94D4-402D-A561-F7AB4739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88D6D-16FD-4A99-A627-1BC8703D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27CF4-E808-40D4-92C8-EEDB38DF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AFE9A-7408-4D0D-9C2F-2E106E5D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FD8A9-AD19-4A33-BC4E-0F819E13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9658E-BB28-4344-8756-2B32157F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0E455-DFF0-411B-A271-E15D91E8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1726-F681-40E9-9DB7-1B80DBE4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15E6C-E215-4BCC-8831-09A82BC0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F23BD-66D3-400D-9FFF-7F989C3B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67016-8713-44BE-889D-E0B9B2EF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D3BDE-8F88-4132-BF23-1DD008DA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1E888-3897-49FF-8DD1-A5B48384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0F9B8-0297-420E-B65D-FE316CCB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E3FAF-EF4F-4CC4-B82A-05F7433D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F67B7-95FE-462B-AF9D-0AB11BA8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6046E-E9CE-4F02-BC41-B90EB8CF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84FAE-50B4-4C1B-932B-D1D88639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01C-B35A-48A9-8F37-85579B4D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EF81C-B86C-4199-948C-F24983A2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F958-0906-4B59-9035-9A75A05C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462D-1954-460B-8709-67D3DB1A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B53E-DD2C-4526-8AA6-0F6CDF06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C252-5C0B-43E1-86FC-869BEA58B40D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F9D1-B7DE-4EAB-B0D2-7949FA3C917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A22E-A5E0-4B9D-9538-4EC1D5370A9E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D14B-1481-44CB-9F74-C2ED8715EE4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CE35-8315-4E2B-A026-1CF60A759BD9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12D0-46B1-473D-9131-4C1ED01BB68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02C3-9713-498C-BAAE-5F839E2FDA3E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EF15-2A1D-4640-B425-608B15B7C8F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4451-B85B-455D-BA9C-A1164392FCAC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59F5-A972-4270-AD1C-7C2C3C45574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30D8-FD93-436B-A536-0252107FECD7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AFE8-A352-4491-8756-28D0043490D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15235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Garamond"/>
              </a:rPr>
              <a:t>The Electoral College</a:t>
            </a:r>
            <a:endParaRPr b="0" lang="en-US" sz="8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9680" y="822240"/>
            <a:ext cx="7916760" cy="1006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Garamond"/>
              </a:rPr>
              <a:t>The Real Election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13C5-D2B9-4F84-A517-35CC5B33495E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06C3-7F8B-414F-91A8-7CEABA471CA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91920" y="2378160"/>
            <a:ext cx="791676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 December of election yea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electors gather in their respective state capitols to cast ballots for president and vice president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 Januar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gress comes into se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y open the ballots received from each sta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y announce the official outcom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464"/>
                </a:solidFill>
                <a:latin typeface="Garamond"/>
              </a:rPr>
              <a:t>What if no one receives a majority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B589-1587-4D03-95D5-CB165CC3DDFD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8D4F-8B51-4D8A-B5C1-C3E0301E624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 win, a candidate needs a majority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70 electoral votes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f no candidate has a majority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House of Representatives selects the president from among the three presidential candidates with the most electoral votes. 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f this happens, each state has one vote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appened only once!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80000"/>
              </a:lnSpc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1824 Congress chose John Quincy Adams over Andrew Jackson and Henry Clay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Senate selects the vice president from the top two vice-presidential candidat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464"/>
                </a:solidFill>
                <a:latin typeface="Garamond"/>
              </a:rPr>
              <a:t>Popular Vote v. the Electoral Vote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A7B1-1674-4CC3-828A-7BEF1E6B9B41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69FE-C2A5-4260-84ED-2CAE23C7557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 a close race, the popular vote winner may not win the electoral college.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e candidate may win states by lopsided margins while the other wins states by narrow margins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lectoral vote winners who lost the popular vot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ush over Gore in 2000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enjamin Harrison over Grover Cleveland in 1888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utherford B. Hayes over Samuel Tilden in 1876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464"/>
                </a:solidFill>
                <a:latin typeface="Garamond"/>
              </a:rPr>
              <a:t>Criticisms of the Electoral College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800B-A117-4BC9-AE22-F853B5F98491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C926-7E5A-42B1-AEEA-A20969EB789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14520" y="1676520"/>
            <a:ext cx="7837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popular vote winner may lose the presidenc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Electors may vote for persons other than their party’s presidential and vice presidential candidat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If no candidate receives a majority, Congress will pick the president and vice presid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Proposals for Reform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16CD-10D8-45F6-9D22-7B6C90E8C8E1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96CC-0E60-401E-8FA8-AD94EB42B66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9120" y="175248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Eliminate electors but still count electoral vot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Choose the president by direct popular elect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Review Question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353A-A870-4E6A-BEA3-2591D4A6C2EA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589C-BF16-4E53-9658-15171A1712B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North Carolina has 13 U.S. representatives.  How many electoral votes does the state have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Review Question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5C33-0019-4895-B958-76AE674BCFEB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1248-87FF-4DE5-887A-7A0393C7D84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92280" y="2695680"/>
            <a:ext cx="768168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Who are elector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Answer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4BD2-27C6-4092-BEC1-67070AB55819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14E9-3A62-4C38-8C59-A02FB3A3DC3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y are individuals selected in each state to officially cast that state’s electoral votes.  Electors are typically long-time party activists who are selected by their state party organization as a reward for their loyalty to the party.  In most states, electors are officially pledged to support their party’s presidential and vice presidential candidat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Review Question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B01D-686E-427F-8DA5-062EAFD515D1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BE96-113A-48EF-8EE3-07C2746D020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Does it matter whether a candidate carries a state by a few votes or a lot of vote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Answer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A622-C8D0-4234-A614-79BE3A9A1CA8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53C1-85B7-4D25-8635-D9127A7929C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No.  A candidate receives all of a state’s electoral votes whether the candidate carries the state by one vote or a million votes.  In every state except Nebraska and Maine, the race is winner take al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True or False?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5BC3-ACDB-463E-B476-D3C09DB18D1B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FF76-854F-432D-A5E4-78C865E0990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769680" y="2774520"/>
            <a:ext cx="7916760" cy="29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candidate with the most votes is elected presid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Answer: Not necessarily.  Ask Al Gor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Review Question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1AA5-4CAF-402A-B3E1-0E228B6C56D6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10A9-92B0-40C3-9844-B3982D61955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What is the small state bia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Answer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A0FF-47B2-4D8C-B70D-A40D00C70D2E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34BB-E3B4-4108-A36E-F70BC2C1293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electoral college has a small state bias because every state gets at least three electoral votes regardless of its population.  As a result, small states such as Alaska, Wyoming, and South Dakota enjoy a greater percentage of electoral votes than they would merit based strictly on populat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The 2000 Election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DECB-4C3C-4D2C-9978-9FC4A9FF666C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72F5-D2AF-44DD-B698-DF85433CE9A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Popular Vo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l Gor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0,996,039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eorge W. Bush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0,456,141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Electoral Vo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eorge W. Bush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71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l Gor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67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Historical Background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1971-B246-427F-B339-23931738E89F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6ABD-08F1-4383-959C-7F1FC100036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91920" y="2536560"/>
            <a:ext cx="7916760" cy="26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framers of the Constitution disagreed on how to elect a presid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ngressional selection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rect popular electio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electoral college was a compromi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mbining features of both approach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464"/>
                </a:solidFill>
                <a:latin typeface="Garamond"/>
              </a:rPr>
              <a:t>The Electoral College and Federalism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ED81-0284-4ABE-A1D6-8B4B90EBAE65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3C9C-E18C-4B0C-9A35-442F40320B8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electoral college also reflects the federal nature of the Constitu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sures that the states have a role in selecting the presiden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0" lang="en-US" sz="4900" spc="-1" strike="noStrike">
                <a:solidFill>
                  <a:srgbClr val="696464"/>
                </a:solidFill>
                <a:latin typeface="Garamond"/>
              </a:rPr>
              <a:t>State Electoral Votes</a:t>
            </a:r>
            <a:endParaRPr b="0" lang="en-US" sz="4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8974-AF67-4E63-8436-E0837B21D71C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3088-5E2A-464F-BC43-A57453E6AA8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Each state is entitled to as many electoral votes as the sum of its represent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U.S. House of Representativ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U.S. House of Senat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Ohio: 18 House members plus 2 senators = 20 electoral vot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Total: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435 House members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100 senators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3 electors for the District of Columbia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= 538 electoral vot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38080" y="8380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143000" y="2895480"/>
            <a:ext cx="7696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Garamond"/>
              </a:rPr>
              <a:t>Who are the Electors?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94D2-85DD-4AEB-AD9E-806FBBD72378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C605-583A-414E-B634-4303F26BDCE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0880" y="19047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Individuals selected in each state to officially cast that state’s electoral vot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Ohio selects 20 electors to cast the state’s 20 electoral vot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ramers anticipated that electors would be state leaders who would exercise good judgment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Today, party leaders select electors who are typically long-time party activist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Electors almost always vote for their party’s candidat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Delegate Votes Divided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94F3-4F69-417F-AFFB-B30CC9CD65B9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9B5E-DF67-49C2-8A6A-7128A49FDD1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92280" y="1980720"/>
            <a:ext cx="7837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Each state determines the manner of sele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All but two states use a winner-take-all delegates statewide election syst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brask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a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veryone el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f Candidate A gets the most votes in a state, Candidate A gets the all of the delegat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Voters and Electors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99B6-B359-4520-B3D1-945B6BF453C7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5600-875D-4C4E-9615-30ABA833B75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92280" y="1828800"/>
            <a:ext cx="775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refore,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n Ohioan who votes for Obama is really voting for a elector pledged to cast the state’s electoral votes for Obama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n 2000, Bush won all of Florida’s 25 electoral votes because the final official vote tally showed him ahead of Gore by about 600 vot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orter, Daryl</dc:creator>
  <dc:description/>
  <dc:language>en-US</dc:language>
  <cp:lastModifiedBy>Josh Zimmerman</cp:lastModifiedBy>
  <dcterms:modified xsi:type="dcterms:W3CDTF">2015-02-11T13:46:50Z</dcterms:modified>
  <cp:revision>72</cp:revision>
  <dc:subject/>
  <dc:title>PowerPoint Presentation</dc:title>
</cp:coreProperties>
</file>