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18.jpeg" ContentType="image/jpeg"/>
  <Override PartName="/ppt/media/image22.jpeg" ContentType="image/jpeg"/>
  <Override PartName="/ppt/media/image7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D8F2-8FCF-4635-BD05-2A18EAC38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aping wound on a woman’s arm is the result of a medical experiment carried out by Nazi physicians on a female prisoner held at the concentration camp at Ravensbrück, Germany. In the experiment, a mixture of phosphorus and rubber was applied to the skin and ignited. After 20 seconds the fire was extinguished with water. Three days later the burn was treated with a liquid form of the herbal remedy echinacea to observe how fast the burn would heal. This photograph, taken by a camp physician, was entered as evidence during the Doctors Trial, in which a United States military tribunal opened criminal proceedings in 1946 against 23 leading German physicians and administrators for their willing participation in war crimes and crimes against human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0BFA-5DCF-4429-A49F-6B53E5C37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11DB-A9DF-43A9-94DD-6421BD97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BC6-3016-47B8-89AC-DBC59F27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5B0-1F4A-4F26-9D55-C7410AE5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DD39-8B53-484A-99AA-F5A04A3C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8FF6-A3D5-4ED2-B316-C7182B8F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BC06-FC36-4260-9119-9131DB04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9970-BC09-4142-8FAE-C6BD850C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74C9-D197-410C-B8A5-6C939E71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74BD-D170-48EE-9BDA-9EB8E530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4027-56FB-40BF-931A-D6DDC0FD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D81C-AAAA-4BDD-A872-006FC739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540-5469-4B3E-8EEB-9520B3B4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1FDB-2A88-4424-ABBD-57531D0E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23CB-C7E0-49C7-AF75-821BBF56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8AE6-DE30-42D8-885E-E61876C8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7C63-0A8D-4D91-881E-85014C33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4375-6857-491D-81E4-1B6B2060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DD48-CFD6-4DB2-8B8B-94960321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625-652A-4A02-8AD3-4446F7E7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F71-B79E-4AF7-89A4-A040BAF4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7C0-FAA7-4B0A-93D0-E42D9371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644-B6B1-473E-8267-1AFAD292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4C1A-4011-4434-9207-B4FE6109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D6B-6634-4EC2-9611-22A84ABB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B52C-890A-4A9D-8DD1-031099402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EF2D-F4AC-4166-BCA0-4067D979D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mainlogo2.gif"/>
          <p:cNvPicPr/>
          <p:nvPr/>
        </p:nvPicPr>
        <p:blipFill>
          <a:blip r:embed="rId1"/>
          <a:stretch/>
        </p:blipFill>
        <p:spPr>
          <a:xfrm>
            <a:off x="81000" y="0"/>
            <a:ext cx="883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Who were the targe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J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Gyps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Homosex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Physically Disab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Mentally Disab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ovi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group.jpg"/>
          <p:cNvPicPr/>
          <p:nvPr/>
        </p:nvPicPr>
        <p:blipFill>
          <a:blip r:embed="rId1"/>
          <a:stretch/>
        </p:blipFill>
        <p:spPr>
          <a:xfrm>
            <a:off x="4305240" y="1905120"/>
            <a:ext cx="4838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How was it carried ou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German troops would go an round up the “un-desirabl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ey would then either be shipped to a concentration camp or extermination ca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4800600" y="1676520"/>
            <a:ext cx="3733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pictures on the following slides are disturbing, they are not meant to gross you out. However, they are meant do give you a glimmer of insight into the horror that these people must have went thr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Shoes at Majdan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1720" y="60400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7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ire bins of prisoners' shoes. </a:t>
            </a: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PTMAJ104"/>
          <p:cNvPicPr/>
          <p:nvPr/>
        </p:nvPicPr>
        <p:blipFill>
          <a:blip r:embed="rId1"/>
          <a:stretch/>
        </p:blipFill>
        <p:spPr>
          <a:xfrm>
            <a:off x="914400" y="100332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Bunkhouse at a cam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bunkhouse.jpg"/>
          <p:cNvPicPr/>
          <p:nvPr/>
        </p:nvPicPr>
        <p:blipFill>
          <a:blip r:embed="rId1"/>
          <a:stretch/>
        </p:blipFill>
        <p:spPr>
          <a:xfrm>
            <a:off x="1344600" y="1233360"/>
            <a:ext cx="650232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Perpetua Titling MT"/>
              </a:rPr>
              <a:t>Bernburg Euthanasia Facili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5" descr="BERN11"/>
          <p:cNvPicPr/>
          <p:nvPr/>
        </p:nvPicPr>
        <p:blipFill>
          <a:blip r:embed="rId1"/>
          <a:stretch/>
        </p:blipFill>
        <p:spPr>
          <a:xfrm>
            <a:off x="4079880" y="1219320"/>
            <a:ext cx="4530600" cy="5105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228600" y="2198520"/>
            <a:ext cx="358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guards at the facility would round up prisoners and say it was time to take a shower, what do you think really happened in the roo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Auschwitz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23920" y="15998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trance to gas chamb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7" descr="fausc15"/>
          <p:cNvPicPr/>
          <p:nvPr/>
        </p:nvPicPr>
        <p:blipFill>
          <a:blip r:embed="rId1"/>
          <a:stretch/>
        </p:blipFill>
        <p:spPr>
          <a:xfrm>
            <a:off x="457200" y="838080"/>
            <a:ext cx="44337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Perpetua Titling MT"/>
              </a:rPr>
              <a:t>Death Camp Gas Chamb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2640" y="601956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70000"/>
              </a:lnSpc>
              <a:spcBef>
                <a:spcPts val="476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Interior of one of the gas chamber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PTMAJ132"/>
          <p:cNvPicPr/>
          <p:nvPr/>
        </p:nvPicPr>
        <p:blipFill>
          <a:blip r:embed="rId1"/>
          <a:stretch/>
        </p:blipFill>
        <p:spPr>
          <a:xfrm>
            <a:off x="1219320" y="1193760"/>
            <a:ext cx="70102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Dissection 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s room was used to examine the bodies to prove that there was something inferior about these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dissection room.jpg"/>
          <p:cNvPicPr/>
          <p:nvPr/>
        </p:nvPicPr>
        <p:blipFill>
          <a:blip r:embed="rId1"/>
          <a:stretch/>
        </p:blipFill>
        <p:spPr>
          <a:xfrm>
            <a:off x="5105520" y="1371600"/>
            <a:ext cx="353376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Perpetua Titling MT"/>
              </a:rPr>
              <a:t>Maybe they would treat the young bet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littleboy.jpg"/>
          <p:cNvPicPr/>
          <p:nvPr/>
        </p:nvPicPr>
        <p:blipFill>
          <a:blip r:embed="rId1"/>
          <a:stretch/>
        </p:blipFill>
        <p:spPr>
          <a:xfrm>
            <a:off x="2743200" y="1600200"/>
            <a:ext cx="3562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Perpetua Titling MT"/>
              </a:rPr>
              <a:t>They might not even wait for the gas chamb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shooter.jpg"/>
          <p:cNvPicPr/>
          <p:nvPr/>
        </p:nvPicPr>
        <p:blipFill>
          <a:blip r:embed="rId1"/>
          <a:stretch/>
        </p:blipFill>
        <p:spPr>
          <a:xfrm>
            <a:off x="1447920" y="1782720"/>
            <a:ext cx="6248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0" y="21747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Stou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oudy Stout"/>
              </a:rPr>
              <a:t>Make the lie big, make it simple, keep saying it, and eventually they will believe i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5257800" y="4871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dolf Hit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deadpit.jpg"/>
          <p:cNvPicPr/>
          <p:nvPr/>
        </p:nvPicPr>
        <p:blipFill>
          <a:blip r:embed="rId1"/>
          <a:stretch/>
        </p:blipFill>
        <p:spPr>
          <a:xfrm>
            <a:off x="4724280" y="914400"/>
            <a:ext cx="4206960" cy="5678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/>
          <p:cNvSpPr/>
          <p:nvPr/>
        </p:nvSpPr>
        <p:spPr>
          <a:xfrm>
            <a:off x="1969920" y="11124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Perpetua Titling MT"/>
              </a:rPr>
              <a:t>A DEADPIT AT A CA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609480" y="1143000"/>
            <a:ext cx="3353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is a Deadp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A deadpit is where German members of the SS dumped the dead bodies from the cam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596880" y="388620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y soon realized that this was a breeding ground for dis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582480" y="54658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do you think they did to prevent th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Dacha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5943240"/>
            <a:ext cx="838188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View of the interior of the Dachau Small Crematorium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daca14"/>
          <p:cNvPicPr/>
          <p:nvPr/>
        </p:nvPicPr>
        <p:blipFill>
          <a:blip r:embed="rId1"/>
          <a:stretch/>
        </p:blipFill>
        <p:spPr>
          <a:xfrm>
            <a:off x="1295280" y="1371600"/>
            <a:ext cx="66675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Perpetua Titling MT"/>
              </a:rPr>
              <a:t>Making a profit from bruta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Content Placeholder 3" descr="BuchenwaldLampshade.jpg"/>
          <p:cNvPicPr/>
          <p:nvPr/>
        </p:nvPicPr>
        <p:blipFill>
          <a:blip r:embed="rId1"/>
          <a:stretch/>
        </p:blipFill>
        <p:spPr>
          <a:xfrm>
            <a:off x="318960" y="1981080"/>
            <a:ext cx="570096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23"/>
          <p:cNvGrpSpPr/>
          <p:nvPr/>
        </p:nvGrpSpPr>
        <p:grpSpPr>
          <a:xfrm>
            <a:off x="5485680" y="1143000"/>
            <a:ext cx="3582000" cy="1448280"/>
            <a:chOff x="5485680" y="1143000"/>
            <a:chExt cx="3582000" cy="1448280"/>
          </a:xfrm>
        </p:grpSpPr>
        <p:cxnSp>
          <p:nvCxnSpPr>
            <p:cNvPr id="149" name="Straight Arrow Connector 9"/>
            <p:cNvCxnSpPr/>
            <p:nvPr/>
          </p:nvCxnSpPr>
          <p:spPr>
            <a:xfrm flipH="1">
              <a:off x="5485680" y="1676520"/>
              <a:ext cx="144828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sp>
          <p:nvSpPr>
            <p:cNvPr id="150" name="Rectangle 12"/>
            <p:cNvSpPr/>
            <p:nvPr/>
          </p:nvSpPr>
          <p:spPr>
            <a:xfrm>
              <a:off x="6858000" y="1143000"/>
              <a:ext cx="2209680" cy="1067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ampshade made from Jewish Ski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24"/>
          <p:cNvGrpSpPr/>
          <p:nvPr/>
        </p:nvGrpSpPr>
        <p:grpSpPr>
          <a:xfrm>
            <a:off x="2590560" y="2286000"/>
            <a:ext cx="6324840" cy="1675800"/>
            <a:chOff x="2590560" y="2286000"/>
            <a:chExt cx="6324840" cy="1675800"/>
          </a:xfrm>
        </p:grpSpPr>
        <p:cxnSp>
          <p:nvCxnSpPr>
            <p:cNvPr id="152" name="Straight Arrow Connector 14"/>
            <p:cNvCxnSpPr/>
            <p:nvPr/>
          </p:nvCxnSpPr>
          <p:spPr>
            <a:xfrm flipH="1">
              <a:off x="2590560" y="2742120"/>
              <a:ext cx="4039200" cy="12200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sp>
          <p:nvSpPr>
            <p:cNvPr id="153" name="Rounded Rectangle 16"/>
            <p:cNvSpPr/>
            <p:nvPr/>
          </p:nvSpPr>
          <p:spPr>
            <a:xfrm>
              <a:off x="6629400" y="2286000"/>
              <a:ext cx="2286000" cy="1067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Jewish Lung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25"/>
          <p:cNvGrpSpPr/>
          <p:nvPr/>
        </p:nvGrpSpPr>
        <p:grpSpPr>
          <a:xfrm>
            <a:off x="2056680" y="3733920"/>
            <a:ext cx="6706440" cy="1218960"/>
            <a:chOff x="2056680" y="3733920"/>
            <a:chExt cx="6706440" cy="1218960"/>
          </a:xfrm>
        </p:grpSpPr>
        <p:cxnSp>
          <p:nvCxnSpPr>
            <p:cNvPr id="155" name="Straight Arrow Connector 18"/>
            <p:cNvCxnSpPr/>
            <p:nvPr/>
          </p:nvCxnSpPr>
          <p:spPr>
            <a:xfrm flipH="1" flipV="1">
              <a:off x="2056680" y="4118040"/>
              <a:ext cx="4634280" cy="2224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pic>
          <p:nvPicPr>
            <p:cNvPr id="156" name="Rounded Rectangle 19" descr=""/>
            <p:cNvPicPr/>
            <p:nvPr/>
          </p:nvPicPr>
          <p:blipFill>
            <a:blip r:embed="rId2"/>
            <a:stretch/>
          </p:blipFill>
          <p:spPr>
            <a:xfrm>
              <a:off x="6672600" y="3733920"/>
              <a:ext cx="209052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26"/>
          <p:cNvGrpSpPr/>
          <p:nvPr/>
        </p:nvGrpSpPr>
        <p:grpSpPr>
          <a:xfrm>
            <a:off x="1523160" y="4190400"/>
            <a:ext cx="7239960" cy="2134080"/>
            <a:chOff x="1523160" y="4190400"/>
            <a:chExt cx="7239960" cy="2134080"/>
          </a:xfrm>
        </p:grpSpPr>
        <p:cxnSp>
          <p:nvCxnSpPr>
            <p:cNvPr id="158" name="Straight Arrow Connector 21"/>
            <p:cNvCxnSpPr/>
            <p:nvPr/>
          </p:nvCxnSpPr>
          <p:spPr>
            <a:xfrm flipH="1" flipV="1">
              <a:off x="1523160" y="4190400"/>
              <a:ext cx="4953960" cy="1600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sp>
          <p:nvSpPr>
            <p:cNvPr id="159" name="Rounded Rectangle 22"/>
            <p:cNvSpPr/>
            <p:nvPr/>
          </p:nvSpPr>
          <p:spPr>
            <a:xfrm>
              <a:off x="6477120" y="5105520"/>
              <a:ext cx="2286000" cy="1218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Jewish Hear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Adobe Garamond Pro Bold"/>
              </a:rPr>
              <a:t>Where did it Happ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5" descr="campmap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5"/>
          <p:cNvSpPr/>
          <p:nvPr/>
        </p:nvSpPr>
        <p:spPr>
          <a:xfrm>
            <a:off x="990720" y="3808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Adobe Garamond Pro Bold"/>
              </a:rPr>
              <a:t>Where did the Holocaust take Plac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7"/>
          <p:cNvSpPr/>
          <p:nvPr/>
        </p:nvSpPr>
        <p:spPr>
          <a:xfrm>
            <a:off x="1841400" y="8938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(Concentration Camps throughout Europ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8"/>
          <p:cNvSpPr/>
          <p:nvPr/>
        </p:nvSpPr>
        <p:spPr>
          <a:xfrm>
            <a:off x="291960" y="1981080"/>
            <a:ext cx="28321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Fr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German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Netherla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Aust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Czech Re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Slovak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Ukra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Latv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Bela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erlin Sans FB Demi"/>
              </a:rPr>
              <a:t>Po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fausc08"/>
          <p:cNvPicPr/>
          <p:nvPr/>
        </p:nvPicPr>
        <p:blipFill>
          <a:blip r:embed="rId1"/>
          <a:stretch/>
        </p:blipFill>
        <p:spPr>
          <a:xfrm>
            <a:off x="3157560" y="1955880"/>
            <a:ext cx="5708520" cy="40608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1"/>
          <p:cNvSpPr/>
          <p:nvPr/>
        </p:nvSpPr>
        <p:spPr>
          <a:xfrm>
            <a:off x="2895480" y="61722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Auschwitz, Poland-An Extermination C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chenwald Gate Buil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4648320"/>
            <a:ext cx="3657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alibri"/>
              </a:rPr>
              <a:t>Gate Building at Buchenwald. The left wing housed SS offices and the right wing housed arrest cell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5" descr="BUCH02"/>
          <p:cNvPicPr/>
          <p:nvPr/>
        </p:nvPicPr>
        <p:blipFill>
          <a:blip r:embed="rId1"/>
          <a:stretch/>
        </p:blipFill>
        <p:spPr>
          <a:xfrm>
            <a:off x="685800" y="762120"/>
            <a:ext cx="7620120" cy="3733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BUCH04"/>
          <p:cNvPicPr/>
          <p:nvPr/>
        </p:nvPicPr>
        <p:blipFill>
          <a:blip r:embed="rId2"/>
          <a:stretch/>
        </p:blipFill>
        <p:spPr>
          <a:xfrm>
            <a:off x="5410080" y="3048120"/>
            <a:ext cx="2971800" cy="22208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5638680" y="533412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f81bd"/>
                </a:solidFill>
                <a:latin typeface="Calibri"/>
              </a:rPr>
              <a:t>JEDEM DAS SEINE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"TO EACH HIS OWN" inscription on gate at Buchenwal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Perpetua Titling MT"/>
              </a:rPr>
              <a:t>Why wasn’t it stopp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3"/>
          <p:cNvSpPr/>
          <p:nvPr/>
        </p:nvSpPr>
        <p:spPr>
          <a:xfrm>
            <a:off x="0" y="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Many Germans blamed Jews for the fall of Germany during World War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Many view Hitler as one of the best public speakers in our world’s history, he made people believe that there was a supreme rac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4" descr="coppersulfate.jpg"/>
          <p:cNvPicPr/>
          <p:nvPr/>
        </p:nvPicPr>
        <p:blipFill>
          <a:blip r:embed="rId1"/>
          <a:stretch/>
        </p:blipFill>
        <p:spPr>
          <a:xfrm>
            <a:off x="4191120" y="3571920"/>
            <a:ext cx="4952880" cy="32860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"/>
          <p:cNvSpPr/>
          <p:nvPr/>
        </p:nvSpPr>
        <p:spPr>
          <a:xfrm>
            <a:off x="380880" y="4648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An experiment  carried out in Ravensbruck, Germ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3"/>
          <p:cNvSpPr/>
          <p:nvPr/>
        </p:nvSpPr>
        <p:spPr>
          <a:xfrm>
            <a:off x="1066680" y="380880"/>
            <a:ext cx="693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Lucida Handwriting"/>
              </a:rPr>
              <a:t>“</a:t>
            </a:r>
            <a:r>
              <a:rPr b="0" lang="en-US" sz="4400" spc="-1" strike="noStrike">
                <a:solidFill>
                  <a:srgbClr val="4f81bd"/>
                </a:solidFill>
                <a:latin typeface="Lucida Handwriting"/>
              </a:rPr>
              <a:t>No human race is superior; no religious faith is inferior. All collective judgments are wrong. Only racists make them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4572000" y="60958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E</a:t>
            </a: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-Elie Wie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4"/>
          <p:cNvSpPr/>
          <p:nvPr/>
        </p:nvSpPr>
        <p:spPr>
          <a:xfrm>
            <a:off x="5052960" y="1401840"/>
            <a:ext cx="320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Who was Hitl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Born 188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Did he always want to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rule the worl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No he originally wanted to be an Art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younghitler.jpg"/>
          <p:cNvPicPr/>
          <p:nvPr/>
        </p:nvPicPr>
        <p:blipFill>
          <a:blip r:embed="rId2"/>
          <a:stretch/>
        </p:blipFill>
        <p:spPr>
          <a:xfrm>
            <a:off x="1371600" y="2057400"/>
            <a:ext cx="3476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wwihit.jpg"/>
          <p:cNvPicPr/>
          <p:nvPr/>
        </p:nvPicPr>
        <p:blipFill>
          <a:blip r:embed="rId2"/>
          <a:stretch/>
        </p:blipFill>
        <p:spPr>
          <a:xfrm>
            <a:off x="1440" y="895320"/>
            <a:ext cx="4078440" cy="445140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6480" y="69840"/>
            <a:ext cx="403848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atura MT Script Capitals"/>
              </a:rPr>
              <a:t>World War 1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648320" y="3429000"/>
            <a:ext cx="4019400" cy="304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ile Hitler was in World War I, he was a decorated h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ever he never rose above the rank of Corporal.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Hitlerport copy.jpg"/>
          <p:cNvPicPr/>
          <p:nvPr/>
        </p:nvPicPr>
        <p:blipFill>
          <a:blip r:embed="rId1"/>
          <a:stretch/>
        </p:blipFill>
        <p:spPr>
          <a:xfrm>
            <a:off x="1298520" y="835200"/>
            <a:ext cx="6815160" cy="542592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380880" y="304920"/>
            <a:ext cx="3657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 Black"/>
              </a:rPr>
              <a:t>It was During this time th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 Black"/>
              </a:rPr>
              <a:t>Hitler bec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 Black"/>
              </a:rPr>
              <a:t>Hateful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 Black"/>
              </a:rPr>
              <a:t>Non-Ary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 Black"/>
              </a:rPr>
              <a:t>Peop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380880" y="60958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omic"/>
              </a:rPr>
              <a:t>Aryan</a:t>
            </a:r>
            <a:r>
              <a:rPr b="0" lang="en-US" sz="1800" spc="-1" strike="noStrike">
                <a:solidFill>
                  <a:srgbClr val="e46c0a"/>
                </a:solidFill>
                <a:latin typeface="comic"/>
              </a:rPr>
              <a:t>-</a:t>
            </a: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a non-Jewish Caucas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0" y="560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30492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2f2f2"/>
                </a:solidFill>
                <a:latin typeface="Copperplate Gothic Light"/>
              </a:rPr>
              <a:t>The Holocaus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iding_Holocaust_pile.jpg"/>
          <p:cNvPicPr/>
          <p:nvPr/>
        </p:nvPicPr>
        <p:blipFill>
          <a:blip r:embed="rId2"/>
          <a:stretch/>
        </p:blipFill>
        <p:spPr>
          <a:xfrm>
            <a:off x="484200" y="1676520"/>
            <a:ext cx="8175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4"/>
          <p:cNvSpPr/>
          <p:nvPr/>
        </p:nvSpPr>
        <p:spPr>
          <a:xfrm>
            <a:off x="1940040" y="-19368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-the systematic     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ss slaughter of European 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ews in Nazi concentration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mps dur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orld War I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300px-Star_of_David_svg.png"/>
          <p:cNvPicPr/>
          <p:nvPr/>
        </p:nvPicPr>
        <p:blipFill>
          <a:blip r:embed="rId1"/>
          <a:stretch/>
        </p:blipFill>
        <p:spPr>
          <a:xfrm>
            <a:off x="1257480" y="133200"/>
            <a:ext cx="6134040" cy="6634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ight” and the Holoca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n did it happ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o were the targe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 was it carried 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re did it happ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y wasn’t it stopp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holocaust intro_0001.wmv" descr=""/>
          <p:cNvPicPr/>
          <p:nvPr/>
        </p:nvPicPr>
        <p:blipFill>
          <a:blip r:embed="rId2"/>
          <a:stretch/>
        </p:blipFill>
        <p:spPr>
          <a:xfrm>
            <a:off x="4879800" y="36576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de Latin"/>
              </a:rPr>
              <a:t>When did it happ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429000" y="19303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39-19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371600" y="29718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uring this time it is estimated that nearly 6,000,000 Jews were killed in the Holocau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8:26:20Z</dcterms:created>
  <dc:creator>zimmermanj3</dc:creator>
  <dc:description/>
  <dc:language>en-US</dc:language>
  <cp:lastModifiedBy>zimmermanj3</cp:lastModifiedBy>
  <dcterms:modified xsi:type="dcterms:W3CDTF">2010-06-03T18:01:51Z</dcterms:modified>
  <cp:revision>84</cp:revision>
  <dc:subject/>
  <dc:title>Slide 1</dc:title>
</cp:coreProperties>
</file>