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93B8-699A-459E-8CC1-121CF0CE5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aping wound on a woman’s arm is the result of a medical experiment carried out by Nazi physicians on a female prisoner held at the concentration camp at Ravensbrück, Germany. In the experiment, a mixture of phosphorus and rubber was applied to the skin and ignited. After 20 seconds the fire was extinguished with water. Three days later the burn was treated with a liquid form of the herbal remedy echinacea to observe how fast the burn would heal. This photograph, taken by a camp physician, was entered as evidence during the Doctors Trial, in which a United States military tribunal opened criminal proceedings in 1946 against 23 leading German physicians and administrators for their willing participation in war crimes and crimes against huma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2906-9D61-4751-BFF0-54973904F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D1E-1633-485C-81F0-9B70DFEE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F36-53D8-4931-80B0-507869AB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D8-A93C-4BAD-B21A-946E9F84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098-9FAB-4D5E-979E-BC7940C2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1D2-8E63-4924-935F-E86844FC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EFA5-E889-46AD-BF46-063F4DCE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F3F-6361-4A81-9774-0FEFA953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1DB-AED3-439D-B3ED-5169F00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EA61-9B71-4C4D-A8D4-29B7274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28D-4672-451F-87F3-C4635F3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EBF7-19B6-4C16-A013-DFA69E7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FD9-3136-4C05-834B-D632F851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E3C2-3516-4020-A37C-B2CE1A1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6DC6-E09C-4AF9-B44D-7DC6266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0D1-6388-48CD-937A-1D0E357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522A-9C56-45AD-A164-5CE0D352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995C-9D73-4D7D-9F19-6EC94391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E17-1130-40B8-B4CA-31E28EA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0A8-2F6E-4238-AE47-7361324E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179-2C12-4EB2-9477-656A33C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A33-AC38-45E5-AB3F-2DDE4946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2BB-778F-415B-BD51-F5A54B5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826-4A81-4042-A5F6-73B5173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A45-F08C-4E4B-B0E2-77CF7D6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EE4-AABF-4241-9926-C3BAD2659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D79-C7B8-41F4-820A-9F10811B1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inlogo2.gif"/>
          <p:cNvPicPr/>
          <p:nvPr/>
        </p:nvPicPr>
        <p:blipFill>
          <a:blip r:embed="rId1"/>
          <a:stretch/>
        </p:blipFill>
        <p:spPr>
          <a:xfrm>
            <a:off x="81000" y="0"/>
            <a:ext cx="88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Who were the targe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yp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omosex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hysic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ent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vi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group.jpg"/>
          <p:cNvPicPr/>
          <p:nvPr/>
        </p:nvPicPr>
        <p:blipFill>
          <a:blip r:embed="rId1"/>
          <a:stretch/>
        </p:blipFill>
        <p:spPr>
          <a:xfrm>
            <a:off x="4305240" y="1905120"/>
            <a:ext cx="4838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How was it carried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erman troops would go an round up the “un-desirab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ey would then either be shipped to a concentration camp or extermination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800600" y="1676520"/>
            <a:ext cx="373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pictures on the following slides are disturbing, they are not meant to gross you out. However, they are meant do give you a glimmer of insight into the horror that these people must have wen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Shoes at Majdan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720" y="6040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ire bins of prisoners' shoes.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TMAJ104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Bunkhouse at a c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bunkhouse.jpg"/>
          <p:cNvPicPr/>
          <p:nvPr/>
        </p:nvPicPr>
        <p:blipFill>
          <a:blip r:embed="rId1"/>
          <a:stretch/>
        </p:blipFill>
        <p:spPr>
          <a:xfrm>
            <a:off x="1344600" y="1233360"/>
            <a:ext cx="65023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Perpetua Titling MT"/>
              </a:rPr>
              <a:t>Bernburg Euthanasia Fac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BERN11"/>
          <p:cNvPicPr/>
          <p:nvPr/>
        </p:nvPicPr>
        <p:blipFill>
          <a:blip r:embed="rId1"/>
          <a:stretch/>
        </p:blipFill>
        <p:spPr>
          <a:xfrm>
            <a:off x="4079880" y="1219320"/>
            <a:ext cx="4530600" cy="51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28600" y="219852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guards at the facility would round up prisoners and say it was time to take a shower, what do you think really happened in the ro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Auschwit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trance to gas cha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fausc15"/>
          <p:cNvPicPr/>
          <p:nvPr/>
        </p:nvPicPr>
        <p:blipFill>
          <a:blip r:embed="rId1"/>
          <a:stretch/>
        </p:blipFill>
        <p:spPr>
          <a:xfrm>
            <a:off x="457200" y="838080"/>
            <a:ext cx="443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Death Camp Gas Chamb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6019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Interior of one of the gas chamber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PTMAJ132"/>
          <p:cNvPicPr/>
          <p:nvPr/>
        </p:nvPicPr>
        <p:blipFill>
          <a:blip r:embed="rId1"/>
          <a:stretch/>
        </p:blipFill>
        <p:spPr>
          <a:xfrm>
            <a:off x="1219320" y="1193760"/>
            <a:ext cx="7010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issection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room was used to examine the bodies to prove that there was something inferior about thes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ssection room.jpg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Maybe they would treat the young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littleboy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62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They might not even wait for the gas cha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hooter.jpg"/>
          <p:cNvPicPr/>
          <p:nvPr/>
        </p:nvPicPr>
        <p:blipFill>
          <a:blip r:embed="rId1"/>
          <a:stretch/>
        </p:blipFill>
        <p:spPr>
          <a:xfrm>
            <a:off x="1447920" y="1782720"/>
            <a:ext cx="624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2174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Make the lie big, make it simple, keep saying it, and eventually they will believe i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57800" y="4871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dolf Hi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eadpit.jpg"/>
          <p:cNvPicPr/>
          <p:nvPr/>
        </p:nvPicPr>
        <p:blipFill>
          <a:blip r:embed="rId1"/>
          <a:stretch/>
        </p:blipFill>
        <p:spPr>
          <a:xfrm>
            <a:off x="4724280" y="914400"/>
            <a:ext cx="4206960" cy="5678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969920" y="1112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Perpetua Titling MT"/>
              </a:rPr>
              <a:t>A DEADPIT AT A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09480" y="114300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is a Deadp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deadpit is where German members of the SS dumped the dead bodies from the c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96880" y="38862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y soon realized that this was a breeding ground fo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82480" y="5465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you think they did to prevent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acha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59432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ew of the interior of the Dachau Small Crematorium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aca14"/>
          <p:cNvPicPr/>
          <p:nvPr/>
        </p:nvPicPr>
        <p:blipFill>
          <a:blip r:embed="rId1"/>
          <a:stretch/>
        </p:blipFill>
        <p:spPr>
          <a:xfrm>
            <a:off x="1295280" y="1371600"/>
            <a:ext cx="66675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Perpetua Titling MT"/>
              </a:rPr>
              <a:t>Making a profit from brut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BuchenwaldLampshade.jpg"/>
          <p:cNvPicPr/>
          <p:nvPr/>
        </p:nvPicPr>
        <p:blipFill>
          <a:blip r:embed="rId1"/>
          <a:stretch/>
        </p:blipFill>
        <p:spPr>
          <a:xfrm>
            <a:off x="318960" y="1981080"/>
            <a:ext cx="57009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3"/>
          <p:cNvGrpSpPr/>
          <p:nvPr/>
        </p:nvGrpSpPr>
        <p:grpSpPr>
          <a:xfrm>
            <a:off x="5485680" y="1143000"/>
            <a:ext cx="3582000" cy="1448280"/>
            <a:chOff x="5485680" y="1143000"/>
            <a:chExt cx="3582000" cy="1448280"/>
          </a:xfrm>
        </p:grpSpPr>
        <p:cxnSp>
          <p:nvCxnSpPr>
            <p:cNvPr id="149" name="Straight Arrow Connector 9"/>
            <p:cNvCxnSpPr/>
            <p:nvPr/>
          </p:nvCxnSpPr>
          <p:spPr>
            <a:xfrm flipH="1">
              <a:off x="5485680" y="1676520"/>
              <a:ext cx="144828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0" name="Rectangle 12"/>
            <p:cNvSpPr/>
            <p:nvPr/>
          </p:nvSpPr>
          <p:spPr>
            <a:xfrm>
              <a:off x="6858000" y="1143000"/>
              <a:ext cx="220968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mpshade made from Jewish Sk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2590560" y="2286000"/>
            <a:ext cx="6324840" cy="1675800"/>
            <a:chOff x="2590560" y="2286000"/>
            <a:chExt cx="6324840" cy="1675800"/>
          </a:xfrm>
        </p:grpSpPr>
        <p:cxnSp>
          <p:nvCxnSpPr>
            <p:cNvPr id="152" name="Straight Arrow Connector 14"/>
            <p:cNvCxnSpPr/>
            <p:nvPr/>
          </p:nvCxnSpPr>
          <p:spPr>
            <a:xfrm flipH="1">
              <a:off x="2590560" y="2742120"/>
              <a:ext cx="4039200" cy="12200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3" name="Rounded Rectangle 16"/>
            <p:cNvSpPr/>
            <p:nvPr/>
          </p:nvSpPr>
          <p:spPr>
            <a:xfrm>
              <a:off x="6629400" y="2286000"/>
              <a:ext cx="2286000" cy="1067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Lung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2056680" y="3733920"/>
            <a:ext cx="6706440" cy="1218960"/>
            <a:chOff x="2056680" y="3733920"/>
            <a:chExt cx="6706440" cy="1218960"/>
          </a:xfrm>
        </p:grpSpPr>
        <p:cxnSp>
          <p:nvCxnSpPr>
            <p:cNvPr id="155" name="Straight Arrow Connector 18"/>
            <p:cNvCxnSpPr/>
            <p:nvPr/>
          </p:nvCxnSpPr>
          <p:spPr>
            <a:xfrm flipH="1" flipV="1">
              <a:off x="2056680" y="4118040"/>
              <a:ext cx="4634280" cy="2224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pic>
          <p:nvPicPr>
            <p:cNvPr id="156" name="Rounded Rectangle 19" descr=""/>
            <p:cNvPicPr/>
            <p:nvPr/>
          </p:nvPicPr>
          <p:blipFill>
            <a:blip r:embed="rId2"/>
            <a:stretch/>
          </p:blipFill>
          <p:spPr>
            <a:xfrm>
              <a:off x="6672600" y="3733920"/>
              <a:ext cx="20905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6"/>
          <p:cNvGrpSpPr/>
          <p:nvPr/>
        </p:nvGrpSpPr>
        <p:grpSpPr>
          <a:xfrm>
            <a:off x="1523160" y="4190400"/>
            <a:ext cx="7239960" cy="2134080"/>
            <a:chOff x="1523160" y="4190400"/>
            <a:chExt cx="7239960" cy="2134080"/>
          </a:xfrm>
        </p:grpSpPr>
        <p:cxnSp>
          <p:nvCxnSpPr>
            <p:cNvPr id="158" name="Straight Arrow Connector 21"/>
            <p:cNvCxnSpPr/>
            <p:nvPr/>
          </p:nvCxnSpPr>
          <p:spPr>
            <a:xfrm flipH="1" flipV="1">
              <a:off x="1523160" y="4190400"/>
              <a:ext cx="4953960" cy="1600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9" name="Rounded Rectangle 22"/>
            <p:cNvSpPr/>
            <p:nvPr/>
          </p:nvSpPr>
          <p:spPr>
            <a:xfrm>
              <a:off x="6477120" y="5105520"/>
              <a:ext cx="2286000" cy="12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Hea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dobe Garamond Pro Bold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campmap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5"/>
          <p:cNvSpPr/>
          <p:nvPr/>
        </p:nvSpPr>
        <p:spPr>
          <a:xfrm>
            <a:off x="990720" y="380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dobe Garamond Pro Bold"/>
              </a:rPr>
              <a:t>Where did the Holocaust take Pla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1841400" y="893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(Concentration Camps throughout Europ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91960" y="1981080"/>
            <a:ext cx="2832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F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Germa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Netherla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Slovak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Lat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Bela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erlin Sans FB Demi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fausc08"/>
          <p:cNvPicPr/>
          <p:nvPr/>
        </p:nvPicPr>
        <p:blipFill>
          <a:blip r:embed="rId1"/>
          <a:stretch/>
        </p:blipFill>
        <p:spPr>
          <a:xfrm>
            <a:off x="3157560" y="1955880"/>
            <a:ext cx="5708520" cy="406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1"/>
          <p:cNvSpPr/>
          <p:nvPr/>
        </p:nvSpPr>
        <p:spPr>
          <a:xfrm>
            <a:off x="2895480" y="6172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uschwitz, Poland-An Extermination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henwald Gate Buil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Gate Building at Buchenwald. The left wing housed SS offices and the right wing housed arrest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BUCH02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UCH04"/>
          <p:cNvPicPr/>
          <p:nvPr/>
        </p:nvPicPr>
        <p:blipFill>
          <a:blip r:embed="rId2"/>
          <a:stretch/>
        </p:blipFill>
        <p:spPr>
          <a:xfrm>
            <a:off x="5410080" y="3048120"/>
            <a:ext cx="2971800" cy="2220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Calibri"/>
              </a:rPr>
              <a:t>JEDEM DAS SEINE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"TO EACH HIS OWN" inscription on gate at Buchenwa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Perpetua Titling MT"/>
              </a:rPr>
              <a:t>Why wasn’t it stopp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Germans blamed Jews for the fall of Germany during World War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view Hitler as one of the best public speakers in our world’s history, he made people believe that there was a supreme ra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coppersulfate.jpg"/>
          <p:cNvPicPr/>
          <p:nvPr/>
        </p:nvPicPr>
        <p:blipFill>
          <a:blip r:embed="rId1"/>
          <a:stretch/>
        </p:blipFill>
        <p:spPr>
          <a:xfrm>
            <a:off x="4191120" y="3571920"/>
            <a:ext cx="495288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38088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An experiment  carried out in Ravensbruck,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1066680" y="38088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“</a:t>
            </a: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No human race is superior; no religious faith is inferior. All collective judgments are wrong. Only racists make them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-Elie Wie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052960" y="140184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Who was Hitl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Born 1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Did he always want to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rule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No he originally wanted to be an Ar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younghitler.jpg"/>
          <p:cNvPicPr/>
          <p:nvPr/>
        </p:nvPicPr>
        <p:blipFill>
          <a:blip r:embed="rId2"/>
          <a:stretch/>
        </p:blipFill>
        <p:spPr>
          <a:xfrm>
            <a:off x="1371600" y="2057400"/>
            <a:ext cx="3476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wihit.jpg"/>
          <p:cNvPicPr/>
          <p:nvPr/>
        </p:nvPicPr>
        <p:blipFill>
          <a:blip r:embed="rId2"/>
          <a:stretch/>
        </p:blipFill>
        <p:spPr>
          <a:xfrm>
            <a:off x="1440" y="895320"/>
            <a:ext cx="4078440" cy="445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80" y="69840"/>
            <a:ext cx="40384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tura MT Script Capitals"/>
              </a:rPr>
              <a:t>World War 1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3429000"/>
            <a:ext cx="4019400" cy="30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le Hitler was in World War I, he was a decorated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 he never rose above the rank of Corporal.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itlerport copy.jpg"/>
          <p:cNvPicPr/>
          <p:nvPr/>
        </p:nvPicPr>
        <p:blipFill>
          <a:blip r:embed="rId1"/>
          <a:stretch/>
        </p:blipFill>
        <p:spPr>
          <a:xfrm>
            <a:off x="1298520" y="835200"/>
            <a:ext cx="6815160" cy="54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80880" y="3049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It was During this time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itler bec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ateful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Non-Ary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6095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omic"/>
              </a:rPr>
              <a:t>Aryan</a:t>
            </a:r>
            <a:r>
              <a:rPr b="0" lang="en-US" sz="1800" spc="-1" strike="noStrike">
                <a:solidFill>
                  <a:srgbClr val="e46c0a"/>
                </a:solidFill>
                <a:latin typeface="comic"/>
              </a:rPr>
              <a:t>-</a:t>
            </a: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 non-Jewish Caucas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560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0492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Copperplate Gothic Light"/>
              </a:rPr>
              <a:t>The Holocau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ding_Holocaust_pile.jpg"/>
          <p:cNvPicPr/>
          <p:nvPr/>
        </p:nvPicPr>
        <p:blipFill>
          <a:blip r:embed="rId2"/>
          <a:stretch/>
        </p:blipFill>
        <p:spPr>
          <a:xfrm>
            <a:off x="484200" y="1676520"/>
            <a:ext cx="817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940040" y="-1936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-the systematic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ss slaughter of European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ws in Nazi concen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mps du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ld War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Star_of_David_svg.png"/>
          <p:cNvPicPr/>
          <p:nvPr/>
        </p:nvPicPr>
        <p:blipFill>
          <a:blip r:embed="rId1"/>
          <a:stretch/>
        </p:blipFill>
        <p:spPr>
          <a:xfrm>
            <a:off x="1257480" y="133200"/>
            <a:ext cx="6134040" cy="663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” and the Holoca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ere the targ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was it carried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y wasn’t it stopp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holocaust intro_0001.wmv" descr=""/>
          <p:cNvPicPr/>
          <p:nvPr/>
        </p:nvPicPr>
        <p:blipFill>
          <a:blip r:embed="rId2"/>
          <a:stretch/>
        </p:blipFill>
        <p:spPr>
          <a:xfrm>
            <a:off x="4879800" y="3657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de Latin"/>
              </a:rPr>
              <a:t>When did it happ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429000" y="1930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-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371600" y="2971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ring this time it is estimated that nearly 6,000,000 Jews were killed in the Holocau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26:20Z</dcterms:created>
  <dc:creator>zimmermanj3</dc:creator>
  <dc:description/>
  <dc:language>en-US</dc:language>
  <cp:lastModifiedBy>zimmermanj3</cp:lastModifiedBy>
  <dcterms:modified xsi:type="dcterms:W3CDTF">2010-06-03T18:01:51Z</dcterms:modified>
  <cp:revision>84</cp:revision>
  <dc:subject/>
  <dc:title>Slide 1</dc:title>
</cp:coreProperties>
</file>